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797675" cy="9926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o-RO" sz="1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ro-RO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954461-525C-47E6-88FB-269DEE48F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79680" y="4715280"/>
            <a:ext cx="5437800" cy="446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48"/>
          </p:nvPr>
        </p:nvSpPr>
        <p:spPr>
          <a:xfrm>
            <a:off x="3850560" y="9428760"/>
            <a:ext cx="294516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o-RO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01D6628-1D65-4E6C-8E49-2521ADA4CC1F}" type="slidenum">
              <a:rPr b="0" lang="ro-RO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79680" y="4715280"/>
            <a:ext cx="5437800" cy="446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sldNum" idx="49"/>
          </p:nvPr>
        </p:nvSpPr>
        <p:spPr>
          <a:xfrm>
            <a:off x="3850560" y="9428760"/>
            <a:ext cx="294516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o-RO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95E6289-23FA-4BBD-8F63-E4008C2DC2D6}" type="slidenum">
              <a:rPr b="0" lang="ro-RO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21BB-C697-497F-93B2-B15DDF5A0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8330-7214-4659-AF3F-3FCD9B8C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F7D2-DD75-45CC-B57F-D421D8462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DE8A-655C-4E29-9DC7-E30A20F05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C930-B79C-4300-890F-AA894DB82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EA39-10B8-469B-9C44-187A47BA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5187-735C-4DBE-AC23-6748D930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5DB1-588B-42CE-A2E8-776B4721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5847-4343-4A15-B0E1-8FCDF8A6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F1E3-6805-4A22-9E2C-F890F449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F03A-B9C6-4ADA-992E-42A9CB06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98C2-F41A-4358-9F3D-4A32D555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318D-0ED4-4908-93CF-68AE2860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65F27-D4AD-4552-935E-5CFA284D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DCA0-2C3F-4B1F-ABF9-0FDA4248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3E96-C987-4C01-9096-447DC7704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E861-DD47-4622-BB13-4584BDF5E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12091-A0C8-4B40-B3F0-755F2A798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4C8AE-8189-47AA-8583-C3AFDBCB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5BE22-20D7-41C2-8AB5-335EAE28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03D45-1B26-4737-9F43-9B7B40D7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F26E0-E2D6-4E7B-8F83-662BEA3D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6676-4667-406D-8F95-80600654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AAFA1-9A41-4DEE-8ADC-C1A373AD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F2F0D-0674-4693-B57B-7885A0B6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AAC1F-6185-448F-A2EA-AE860327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454A3-E3D4-461F-AD54-9A78DB8A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2F95D-FF46-4E19-B661-DE613315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AA64B-01D2-4025-ADED-41F82640D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765F7-81B5-40BB-BC81-0C457A805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9AB5-0541-409D-9151-33BD12CD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8663-EE59-4009-A348-2623B321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FED4-A9D5-4433-B15B-C978FC34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61A2-8D72-4492-94DA-7EC7DA8B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7B96-372C-481E-9063-B2698C93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D233-07B1-4916-9857-5E744CD9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o-RO" sz="4400" spc="-1" strike="noStrike">
                <a:solidFill>
                  <a:srgbClr val="000000"/>
                </a:solidFill>
                <a:latin typeface="Trebuchet MS"/>
              </a:rPr>
              <a:t>Faceți clic pentru a edita stilul de titlu Coordonator</a:t>
            </a:r>
            <a:endParaRPr b="0" lang="ro-RO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o-RO" sz="12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o-RO" sz="12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o-RO" sz="12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01846CC-6581-46C7-9C7F-37E3E140AD7F}" type="slidenum">
              <a:rPr b="0" lang="ro-RO" sz="1200" spc="-1" strike="noStrike">
                <a:solidFill>
                  <a:srgbClr val="8b8b8b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3" descr="C:\Users\nicolaedemian\Desktop\Sigla sus.PNG"/>
          <p:cNvPicPr/>
          <p:nvPr/>
        </p:nvPicPr>
        <p:blipFill>
          <a:blip r:embed="rId2"/>
          <a:stretch/>
        </p:blipFill>
        <p:spPr>
          <a:xfrm>
            <a:off x="60840" y="0"/>
            <a:ext cx="9022680" cy="15235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C:\Users\nicolaedemian\Desktop\sigla josss.PNG"/>
          <p:cNvPicPr/>
          <p:nvPr/>
        </p:nvPicPr>
        <p:blipFill>
          <a:blip r:embed="rId3"/>
          <a:stretch/>
        </p:blipFill>
        <p:spPr>
          <a:xfrm>
            <a:off x="0" y="6200640"/>
            <a:ext cx="9143640" cy="657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3" descr="C:\Users\nicolaedemian\Downloads\Sigla joss.png"/>
          <p:cNvPicPr/>
          <p:nvPr/>
        </p:nvPicPr>
        <p:blipFill>
          <a:blip r:embed="rId4"/>
          <a:stretch/>
        </p:blipFill>
        <p:spPr>
          <a:xfrm>
            <a:off x="0" y="6226200"/>
            <a:ext cx="9143640" cy="6314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4" descr="noua sigla color"/>
          <p:cNvPicPr/>
          <p:nvPr/>
        </p:nvPicPr>
        <p:blipFill>
          <a:blip r:embed="rId5"/>
          <a:stretch/>
        </p:blipFill>
        <p:spPr>
          <a:xfrm>
            <a:off x="3276000" y="4437000"/>
            <a:ext cx="2594160" cy="1775160"/>
          </a:xfrm>
          <a:prstGeom prst="rect">
            <a:avLst/>
          </a:prstGeom>
          <a:ln w="9525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ro-RO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ro-RO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ro-RO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ro-RO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ro-RO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ro-RO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56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o-RO" sz="4400" spc="-1" strike="noStrike">
                <a:solidFill>
                  <a:srgbClr val="000000"/>
                </a:solidFill>
                <a:latin typeface="Trebuchet MS"/>
              </a:rPr>
              <a:t>Faceți clic pentru a edita stilul</a:t>
            </a:r>
            <a:endParaRPr b="0" lang="ro-RO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2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Faceți clic pentru a edita stilurile de text Coordonator</a:t>
            </a: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Al doilea nivel</a:t>
            </a:r>
            <a:endParaRPr b="0" lang="ro-RO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l treilea nivel</a:t>
            </a:r>
            <a:endParaRPr b="0" lang="ro-RO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Al patrulea nivel</a:t>
            </a:r>
            <a:endParaRPr b="0" lang="ro-RO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Al cincilea nivel</a:t>
            </a:r>
            <a:endParaRPr b="0" lang="ro-RO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o-RO" sz="12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o-RO" sz="12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o-RO" sz="12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AEE91EE-8B35-4F7A-9103-B0155E02E5CB}" type="slidenum">
              <a:rPr b="0" lang="ro-RO" sz="1200" spc="-1" strike="noStrike">
                <a:solidFill>
                  <a:srgbClr val="8b8b8b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C:\Users\nicolaedemian\Desktop\sigla josss.PNG"/>
          <p:cNvPicPr/>
          <p:nvPr/>
        </p:nvPicPr>
        <p:blipFill>
          <a:blip r:embed="rId2"/>
          <a:stretch/>
        </p:blipFill>
        <p:spPr>
          <a:xfrm>
            <a:off x="0" y="6200640"/>
            <a:ext cx="9143640" cy="657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Users\nicolaedemian\Downloads\Sigla joss.png"/>
          <p:cNvPicPr/>
          <p:nvPr/>
        </p:nvPicPr>
        <p:blipFill>
          <a:blip r:embed="rId3"/>
          <a:stretch/>
        </p:blipFill>
        <p:spPr>
          <a:xfrm>
            <a:off x="0" y="6226200"/>
            <a:ext cx="9143640" cy="63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o-RO" sz="4400" spc="-1" strike="noStrike">
                <a:solidFill>
                  <a:srgbClr val="000000"/>
                </a:solidFill>
                <a:latin typeface="Trebuchet MS"/>
              </a:rPr>
              <a:t>Faceți clic pentru a edita stilul de titlu Coordonator</a:t>
            </a:r>
            <a:endParaRPr b="0" lang="ro-RO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o-RO" sz="12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o-RO" sz="12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o-RO" sz="12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348FF0-65D2-4558-87C5-06095D885521}" type="slidenum">
              <a:rPr b="0" lang="ro-RO" sz="1200" spc="-1" strike="noStrike">
                <a:solidFill>
                  <a:srgbClr val="8b8b8b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" descr="C:\Users\nicolaedemian\Desktop\sigla josss.PNG"/>
          <p:cNvPicPr/>
          <p:nvPr/>
        </p:nvPicPr>
        <p:blipFill>
          <a:blip r:embed="rId2"/>
          <a:stretch/>
        </p:blipFill>
        <p:spPr>
          <a:xfrm>
            <a:off x="0" y="6200640"/>
            <a:ext cx="9143640" cy="657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C:\Users\nicolaedemian\Downloads\Sigla joss.png"/>
          <p:cNvPicPr/>
          <p:nvPr/>
        </p:nvPicPr>
        <p:blipFill>
          <a:blip r:embed="rId3"/>
          <a:stretch/>
        </p:blipFill>
        <p:spPr>
          <a:xfrm>
            <a:off x="0" y="6226200"/>
            <a:ext cx="9143640" cy="6314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ro-RO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ro-RO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ro-RO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ro-RO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ro-RO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ro-RO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ro-RO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drept.ro/00162677.htm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itlu 1"/>
          <p:cNvSpPr/>
          <p:nvPr/>
        </p:nvSpPr>
        <p:spPr>
          <a:xfrm>
            <a:off x="2843640" y="3501000"/>
            <a:ext cx="3451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1" i="1" lang="ro-RO" sz="2800" spc="-1" strike="noStrike" cap="all">
              <a:solidFill>
                <a:srgbClr val="797979"/>
              </a:solidFill>
              <a:latin typeface="Trebuchet MS"/>
            </a:endParaRPr>
          </a:p>
        </p:txBody>
      </p:sp>
      <p:sp>
        <p:nvSpPr>
          <p:cNvPr id="138" name="Titlu 12"/>
          <p:cNvSpPr/>
          <p:nvPr/>
        </p:nvSpPr>
        <p:spPr>
          <a:xfrm>
            <a:off x="455040" y="2421000"/>
            <a:ext cx="822924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9d1e23"/>
                </a:solidFill>
                <a:latin typeface="Calibri"/>
              </a:rPr>
              <a:t>IMPLEMENTAREA  SI  MONITORIZAREA  PROIECTELOR </a:t>
            </a:r>
            <a:br>
              <a:rPr sz="3200"/>
            </a:br>
            <a:r>
              <a:rPr b="1" lang="en-US" sz="3200" spc="-1" strike="noStrike">
                <a:solidFill>
                  <a:srgbClr val="9d1e23"/>
                </a:solidFill>
                <a:latin typeface="Calibri"/>
              </a:rPr>
              <a:t>FINANTATE  DIN POR 2014 - 20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ubstituent conținut 13"/>
          <p:cNvSpPr/>
          <p:nvPr/>
        </p:nvSpPr>
        <p:spPr>
          <a:xfrm>
            <a:off x="0" y="4005000"/>
            <a:ext cx="9036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9d1e23"/>
                </a:solidFill>
                <a:latin typeface="Calibri"/>
              </a:rPr>
              <a:t>28 APRILIE </a:t>
            </a:r>
            <a:r>
              <a:rPr b="1" lang="ro-RO" sz="2400" spc="-1" strike="noStrike">
                <a:solidFill>
                  <a:srgbClr val="9d1e23"/>
                </a:solidFill>
                <a:latin typeface="Calibri"/>
              </a:rPr>
              <a:t>20</a:t>
            </a:r>
            <a:r>
              <a:rPr b="1" lang="en-US" sz="2400" spc="-1" strike="noStrike">
                <a:solidFill>
                  <a:srgbClr val="9d1e23"/>
                </a:solidFill>
                <a:latin typeface="Calibri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Num" idx="13"/>
          </p:nvPr>
        </p:nvSpPr>
        <p:spPr>
          <a:xfrm>
            <a:off x="7164360" y="6453360"/>
            <a:ext cx="322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o-RO" sz="12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699F56-FD2B-4DEE-9E63-8325F28319CA}" type="slidenum">
              <a:rPr b="0" lang="ro-RO" sz="1200" spc="-1" strike="noStrike">
                <a:solidFill>
                  <a:srgbClr val="8b8b8b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" descr=""/>
          <p:cNvPicPr/>
          <p:nvPr/>
        </p:nvPicPr>
        <p:blipFill>
          <a:blip r:embed="rId1"/>
          <a:stretch/>
        </p:blipFill>
        <p:spPr>
          <a:xfrm>
            <a:off x="278280" y="304920"/>
            <a:ext cx="8534160" cy="998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"/>
          <p:cNvPicPr/>
          <p:nvPr/>
        </p:nvPicPr>
        <p:blipFill>
          <a:blip r:embed="rId2"/>
          <a:srcRect l="0" t="0" r="661" b="0"/>
          <a:stretch/>
        </p:blipFill>
        <p:spPr>
          <a:xfrm>
            <a:off x="0" y="6341760"/>
            <a:ext cx="9143640" cy="1540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8"/>
          <p:cNvSpPr/>
          <p:nvPr/>
        </p:nvSpPr>
        <p:spPr>
          <a:xfrm>
            <a:off x="2393640" y="6541200"/>
            <a:ext cx="465084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www.inforegio.ro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Segoe UI"/>
              </a:rPr>
              <a:t>     </a:t>
            </a: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|     facebook.com/inforegio.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1" descr="C:\Users\cristianciuta\Desktop\12.02.2018\Sigle si etichete\Sigla buna ADR.png"/>
          <p:cNvPicPr/>
          <p:nvPr/>
        </p:nvPicPr>
        <p:blipFill>
          <a:blip r:embed="rId3"/>
          <a:stretch/>
        </p:blipFill>
        <p:spPr>
          <a:xfrm>
            <a:off x="2809080" y="4648320"/>
            <a:ext cx="299196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ăgeată dreapta vărgată 8" hidden="1"/>
          <p:cNvSpPr/>
          <p:nvPr/>
        </p:nvSpPr>
        <p:spPr>
          <a:xfrm>
            <a:off x="1043640" y="4077000"/>
            <a:ext cx="575640" cy="1223640"/>
          </a:xfrm>
          <a:prstGeom prst="striped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dadada"/>
              </a:gs>
              <a:gs pos="100000">
                <a:srgbClr val="f0f0f0"/>
              </a:gs>
            </a:gsLst>
            <a:lin ang="16200000"/>
          </a:gradFill>
          <a:ln>
            <a:solidFill>
              <a:srgbClr val="777777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o-RO" sz="1800" spc="-1" strike="noStrike">
              <a:solidFill>
                <a:schemeClr val="dk1"/>
              </a:solidFill>
              <a:latin typeface="Trebuchet MS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726480" y="692640"/>
            <a:ext cx="8077320" cy="52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DITII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E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</a:pPr>
            <a:r>
              <a:rPr b="1" lang="x-none" sz="1800" spc="-1" strike="noStrike" u="sng">
                <a:solidFill>
                  <a:srgbClr val="000000"/>
                </a:solidFill>
                <a:uFillTx/>
                <a:latin typeface="Calibri"/>
              </a:rPr>
              <a:t>Obligațiile părților</a:t>
            </a:r>
            <a:r>
              <a:rPr b="1" lang="ro-RO" sz="1800" spc="-1" strike="noStrike" u="sng">
                <a:solidFill>
                  <a:srgbClr val="000000"/>
                </a:solidFill>
                <a:uFillTx/>
                <a:latin typeface="Calibri"/>
              </a:rPr>
              <a:t>/</a:t>
            </a:r>
            <a:r>
              <a:rPr b="1" lang="ro-RO" sz="1800" spc="-1" strike="noStrike" u="sng" cap="all">
                <a:solidFill>
                  <a:srgbClr val="000000"/>
                </a:solidFill>
                <a:uFillTx/>
                <a:latin typeface="Calibri"/>
              </a:rPr>
              <a:t> </a:t>
            </a:r>
            <a:r>
              <a:rPr b="1" lang="ro-RO" sz="1800" spc="-1" strike="noStrike" u="sng">
                <a:solidFill>
                  <a:srgbClr val="000000"/>
                </a:solidFill>
                <a:uFillTx/>
                <a:latin typeface="Calibri"/>
              </a:rPr>
              <a:t>Drepturile și obligațiile beneficiarului /Partener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Beneficiarul are obligația de a informa AM/OI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_ în </a:t>
            </a: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maxim 3 (trei) zile lucrătoare cu privire la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buClr>
                <a:srgbClr val="000000"/>
              </a:buClr>
              <a:buFont typeface="Trebuchet MS"/>
              <a:buAutoNum type="arabicPeriod"/>
            </a:pP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schimbarea denumirii, schimbarea adresei sediului beneficiarului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buClr>
                <a:srgbClr val="000000"/>
              </a:buClr>
              <a:buFont typeface="Trebuchet MS"/>
              <a:buAutoNum type="arabicPeriod"/>
            </a:pP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schimbarea contului special deschis pentru Proiec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buClr>
                <a:srgbClr val="000000"/>
              </a:buClr>
              <a:buFont typeface="Trebuchet MS"/>
              <a:buAutoNum type="arabicPeriod"/>
            </a:pP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înlocuirea reprezentantului leg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Nota: 1, 2, 3 -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NU necesita</a:t>
            </a: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 aprob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are</a:t>
            </a: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 AM/OI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2000" indent="-28584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În caul verificarilor la fața locului _ Beneficiarul este obligat să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89200" indent="-285840"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Particip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89200" indent="-285840"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Să invite persoanele care sunt implicate în implementarea proiectulu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000" indent="-28584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În cazul unei defecțiuni a sistemului MySMIS 2014 sau al forței majore, Beneficiarul poate prezenta informațiile solicitate în format scriptic - Beneficiarul va adăuga documentele respective în MySMIS 2014 imediat după încetarea situația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Num" idx="22"/>
          </p:nvPr>
        </p:nvSpPr>
        <p:spPr>
          <a:xfrm>
            <a:off x="7020360" y="6489360"/>
            <a:ext cx="431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o-RO" sz="12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4BA990C-9DEC-4B52-8734-42AFC8D40CF8}" type="slidenum">
              <a:rPr b="0" lang="ro-RO" sz="1200" spc="-1" strike="noStrike">
                <a:solidFill>
                  <a:srgbClr val="8b8b8b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rcRect l="0" t="0" r="661" b="0"/>
          <a:stretch/>
        </p:blipFill>
        <p:spPr>
          <a:xfrm>
            <a:off x="0" y="6341760"/>
            <a:ext cx="9143640" cy="1540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5"/>
          <p:cNvSpPr/>
          <p:nvPr/>
        </p:nvSpPr>
        <p:spPr>
          <a:xfrm>
            <a:off x="2393640" y="6541200"/>
            <a:ext cx="4650840" cy="30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www.inforegio.ro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Segoe UI"/>
              </a:rPr>
              <a:t>     </a:t>
            </a: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|     facebook.com/inforegio.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ăgeată dreapta vărgată 8" hidden="1"/>
          <p:cNvSpPr/>
          <p:nvPr/>
        </p:nvSpPr>
        <p:spPr>
          <a:xfrm>
            <a:off x="1043640" y="4077000"/>
            <a:ext cx="575640" cy="1223640"/>
          </a:xfrm>
          <a:prstGeom prst="striped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dadada"/>
              </a:gs>
              <a:gs pos="100000">
                <a:srgbClr val="f0f0f0"/>
              </a:gs>
            </a:gsLst>
            <a:lin ang="16200000"/>
          </a:gradFill>
          <a:ln>
            <a:solidFill>
              <a:srgbClr val="777777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o-RO" sz="1800" spc="-1" strike="noStrike">
              <a:solidFill>
                <a:schemeClr val="dk1"/>
              </a:solidFill>
              <a:latin typeface="Trebuchet MS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653040" y="332640"/>
            <a:ext cx="8238960" cy="5314320"/>
          </a:xfrm>
          <a:prstGeom prst="rect">
            <a:avLst/>
          </a:prstGeom>
          <a:solidFill>
            <a:schemeClr val="bg1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0000"/>
              </a:lnSpc>
              <a:spcBef>
                <a:spcPts val="30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ONDITII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GENERALE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300"/>
              </a:spcBef>
            </a:pPr>
            <a:r>
              <a:rPr b="1" lang="x-none" sz="1600" spc="-1" strike="noStrike" u="sng">
                <a:solidFill>
                  <a:srgbClr val="000000"/>
                </a:solidFill>
                <a:uFillTx/>
                <a:latin typeface="Calibri"/>
              </a:rPr>
              <a:t>Cesiunea și contractare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În cazul externalizării/contractării unor activităţi din cadrul proiectului, responsabilitatea pentru implementarea acelor activități revine Beneficiarulu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Contractul + drepturile şi obligaţiile </a:t>
            </a:r>
            <a:r>
              <a:rPr b="1" lang="ro-RO" sz="1600" spc="-1" strike="noStrike" u="sng">
                <a:solidFill>
                  <a:srgbClr val="000000"/>
                </a:solidFill>
                <a:uFillTx/>
                <a:latin typeface="Calibri"/>
              </a:rPr>
              <a:t>NU pot face obiectul cesiunii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totale sau parțiale, sau a oricărui alt mecanism de transmisiune şi/sau transformare a obligaţiilor şi drepturilo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</a:pPr>
            <a:r>
              <a:rPr b="1" lang="x-none" sz="1600" spc="-1" strike="noStrike" u="sng">
                <a:solidFill>
                  <a:srgbClr val="000000"/>
                </a:solidFill>
                <a:uFillTx/>
                <a:latin typeface="Calibri"/>
              </a:rPr>
              <a:t>MODIFICĂRI ȘI COMPLETĂRI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 LA CONTRACTUL DE FINAN</a:t>
            </a:r>
            <a:r>
              <a:rPr b="1" lang="ro-RO" sz="1600" spc="-1" strike="noStrike" u="sng">
                <a:solidFill>
                  <a:srgbClr val="000000"/>
                </a:solidFill>
                <a:uFillTx/>
                <a:latin typeface="Calibri"/>
              </a:rPr>
              <a:t>Ț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Modificarea Contractului/Anexelor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(în aceleasi conditii)_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ct adiţional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(Anexa 18)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Beneficiarul transmite solicitarea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+ justificari 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la OI/AM cu min. 20 de zile lucrătoar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EXCEPȚII – prin Notificare - </a:t>
            </a:r>
            <a:r>
              <a:rPr b="1" lang="ro-RO" sz="1600" spc="-1" strike="noStrike" u="sng">
                <a:solidFill>
                  <a:srgbClr val="000000"/>
                </a:solidFill>
                <a:uFillTx/>
                <a:latin typeface="Calibri"/>
              </a:rPr>
              <a:t>intra în vigoare din a 11-a zi după înreg. la OI/A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buClr>
                <a:srgbClr val="000000"/>
              </a:buClr>
              <a:buFont typeface="Trebuchet MS"/>
              <a:buAutoNum type="alphaLcParenR"/>
            </a:pPr>
            <a:r>
              <a:rPr b="1" lang="ro-RO" sz="1600" spc="-1" strike="noStrike" u="sng">
                <a:solidFill>
                  <a:srgbClr val="000000"/>
                </a:solidFill>
                <a:uFillTx/>
                <a:latin typeface="Calibri"/>
              </a:rPr>
              <a:t>Bugetul proiectului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- în limita a 10% între capitole bugetare – cu încadrare în limitele maxime din Ghidul Solicitantulu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lnSpc>
                <a:spcPct val="110000"/>
              </a:lnSpc>
              <a:buClr>
                <a:srgbClr val="000000"/>
              </a:buClr>
              <a:buFont typeface="Trebuchet MS"/>
              <a:buAutoNum type="alphaLcParenR" startAt="2"/>
            </a:pPr>
            <a:r>
              <a:rPr b="1" lang="ro-RO" sz="1600" spc="-1" strike="noStrike" u="sng">
                <a:solidFill>
                  <a:srgbClr val="000000"/>
                </a:solidFill>
                <a:uFillTx/>
                <a:latin typeface="Calibri"/>
              </a:rPr>
              <a:t>Bugetul proiectului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x-none" sz="1600" spc="-1" strike="noStrike">
                <a:solidFill>
                  <a:srgbClr val="000000"/>
                </a:solidFill>
                <a:latin typeface="Calibri"/>
              </a:rPr>
              <a:t>în cadrul aceluiași capitol bugetar, între tipurile de cheltuiel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lnSpc>
                <a:spcPct val="110000"/>
              </a:lnSpc>
              <a:buClr>
                <a:srgbClr val="000000"/>
              </a:buClr>
              <a:buFont typeface="Trebuchet MS"/>
              <a:buAutoNum type="alphaLcParenR" startAt="2"/>
            </a:pP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Modificari  în echipa de implementare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tificare  conf. Anexa 4.7.1 + Declaratie conf. Anexa 4.7.3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lnSpc>
                <a:spcPct val="110000"/>
              </a:lnSpc>
              <a:buClr>
                <a:srgbClr val="000000"/>
              </a:buClr>
              <a:buFont typeface="Trebuchet MS"/>
              <a:buAutoNum type="alphaLcParenR" startAt="2"/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odificarea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alendarului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 de activităţi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– !!! 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FĂRĂ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depașire perioadă de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implementar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Trebuchet MS"/>
              <a:buAutoNum type="alphaLcParenR" startAt="5"/>
            </a:pP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Modificarea graficului  de rambursare a cheltuielilor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Trebuchet MS"/>
              <a:buAutoNum type="alphaLcParenR" startAt="5"/>
            </a:pP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Reducerea valorii indicatorilor =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&gt; reducere propor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țională valoarea totală eligibil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x-none" sz="1600" spc="-1" strike="noStrike">
                <a:solidFill>
                  <a:srgbClr val="000000"/>
                </a:solidFill>
                <a:latin typeface="Calibri"/>
              </a:rPr>
              <a:t>lte situații </a:t>
            </a:r>
            <a:r>
              <a:rPr b="0" lang="x-none" sz="1600" spc="-1" strike="noStrike">
                <a:solidFill>
                  <a:srgbClr val="000000"/>
                </a:solidFill>
                <a:latin typeface="Calibri"/>
              </a:rPr>
              <a:t>prevăzute în Condițiile Specifice din prezentul Contract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Num" idx="23"/>
          </p:nvPr>
        </p:nvSpPr>
        <p:spPr>
          <a:xfrm>
            <a:off x="7092360" y="6473520"/>
            <a:ext cx="359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o-RO" sz="12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7709D79-1D3E-40B1-BFB1-C1D0EEE046A1}" type="slidenum">
              <a:rPr b="0" lang="ro-RO" sz="1200" spc="-1" strike="noStrike">
                <a:solidFill>
                  <a:srgbClr val="8b8b8b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rcRect l="0" t="0" r="661" b="0"/>
          <a:stretch/>
        </p:blipFill>
        <p:spPr>
          <a:xfrm>
            <a:off x="0" y="6341760"/>
            <a:ext cx="9143640" cy="15408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5"/>
          <p:cNvSpPr/>
          <p:nvPr/>
        </p:nvSpPr>
        <p:spPr>
          <a:xfrm>
            <a:off x="2393640" y="6541200"/>
            <a:ext cx="4650840" cy="30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www.inforegio.ro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Segoe UI"/>
              </a:rPr>
              <a:t>     </a:t>
            </a: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|     facebook.com/inforegio.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ăgeată dreapta vărgată 8" hidden="1"/>
          <p:cNvSpPr/>
          <p:nvPr/>
        </p:nvSpPr>
        <p:spPr>
          <a:xfrm>
            <a:off x="1043640" y="4077000"/>
            <a:ext cx="575640" cy="1223640"/>
          </a:xfrm>
          <a:prstGeom prst="striped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dadada"/>
              </a:gs>
              <a:gs pos="100000">
                <a:srgbClr val="f0f0f0"/>
              </a:gs>
            </a:gsLst>
            <a:lin ang="16200000"/>
          </a:gradFill>
          <a:ln>
            <a:solidFill>
              <a:srgbClr val="777777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o-RO" sz="1800" spc="-1" strike="noStrike">
              <a:solidFill>
                <a:schemeClr val="dk1"/>
              </a:solidFill>
              <a:latin typeface="Trebuchet MS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776880" y="548640"/>
            <a:ext cx="8077320" cy="48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DITII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E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</a:pPr>
            <a:r>
              <a:rPr b="1" lang="ro-RO" sz="1800" spc="-1" strike="noStrike" u="sng">
                <a:solidFill>
                  <a:srgbClr val="000000"/>
                </a:solidFill>
                <a:uFillTx/>
                <a:latin typeface="Calibri"/>
              </a:rPr>
              <a:t>Suspendarea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x-none" sz="1800" spc="-1" strike="noStrike">
                <a:solidFill>
                  <a:srgbClr val="000000"/>
                </a:solidFill>
                <a:latin typeface="Calibri"/>
              </a:rPr>
              <a:t>prin comunicarea unei notificări în termen de 5 zile de la  intervenirea situației, după cum urmeaz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</a:pP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De către AM/OI, la solicitarea beneficiarului, în  cazul insuficienței fondurilor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De către AM în cazul incidenței articolului 8 din OUG 66/2011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De către AM/beneficiar în caz de forță majoră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</a:pPr>
            <a:r>
              <a:rPr b="1" lang="ro-RO" sz="1800" spc="-1" strike="noStrike" u="sng">
                <a:solidFill>
                  <a:srgbClr val="000000"/>
                </a:solidFill>
                <a:uFillTx/>
                <a:latin typeface="Calibri"/>
              </a:rPr>
              <a:t>Rezilierea 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– AM/OI - fără alte formalități + recupereare sume plăti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Dacă Beneficiarul nu a început executarea Contractului în 6 (şase) luni de la data intrării în vigoare sau in termenul prevăzut de Anexa 1 – Cond. specific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Dacă se constată că Beneficiarul/Partenerii/Proiectul nu au îndeplinit condițiile de eligibilitate la data depunerii cererii de finanțar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Dacă Beneficiarul încalcă prevederile art. 8 alin. (2)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– (în caz de cesiune, etc.)</a:t>
            </a: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Dacă Proiectul face (a fcăcut) obiectul unei alte finanţări din fonduri publice naţionale sau europene _ pentru aceleași costuri in ultimii 3/5 ani, după caz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Num" idx="24"/>
          </p:nvPr>
        </p:nvSpPr>
        <p:spPr>
          <a:xfrm>
            <a:off x="7020360" y="6492960"/>
            <a:ext cx="538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o-RO" sz="12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2983A6A-983A-4FC2-A8C2-004338EB70F9}" type="slidenum">
              <a:rPr b="0" lang="ro-RO" sz="1200" spc="-1" strike="noStrike">
                <a:solidFill>
                  <a:srgbClr val="8b8b8b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rcRect l="0" t="0" r="661" b="0"/>
          <a:stretch/>
        </p:blipFill>
        <p:spPr>
          <a:xfrm>
            <a:off x="0" y="6341760"/>
            <a:ext cx="9143640" cy="15408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5"/>
          <p:cNvSpPr/>
          <p:nvPr/>
        </p:nvSpPr>
        <p:spPr>
          <a:xfrm>
            <a:off x="2393640" y="6541200"/>
            <a:ext cx="4650840" cy="30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www.inforegio.ro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Segoe UI"/>
              </a:rPr>
              <a:t>     </a:t>
            </a: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|     facebook.com/inforegio.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ăgeată dreapta vărgată 8" hidden="1"/>
          <p:cNvSpPr/>
          <p:nvPr/>
        </p:nvSpPr>
        <p:spPr>
          <a:xfrm>
            <a:off x="1043640" y="4077000"/>
            <a:ext cx="575640" cy="1223640"/>
          </a:xfrm>
          <a:prstGeom prst="striped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dadada"/>
              </a:gs>
              <a:gs pos="100000">
                <a:srgbClr val="f0f0f0"/>
              </a:gs>
            </a:gsLst>
            <a:lin ang="16200000"/>
          </a:gradFill>
          <a:ln>
            <a:solidFill>
              <a:srgbClr val="777777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o-RO" sz="1800" spc="-1" strike="noStrike">
              <a:solidFill>
                <a:schemeClr val="dk1"/>
              </a:solidFill>
              <a:latin typeface="Trebuchet MS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735120" y="404640"/>
            <a:ext cx="8077320" cy="57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DITII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E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601"/>
              </a:spcBef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1" lang="ro-RO" sz="1800" spc="-1" strike="noStrike" u="sng">
                <a:solidFill>
                  <a:srgbClr val="000000"/>
                </a:solidFill>
                <a:uFillTx/>
                <a:latin typeface="Calibri"/>
              </a:rPr>
              <a:t>ancțiuni pt. nerespect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Restituire suma aferentă documentelor lipsă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– dac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ă nu se respecta Art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7, alin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5)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și (8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x-none" sz="1600" spc="-1" strike="noStrike">
                <a:solidFill>
                  <a:srgbClr val="000000"/>
                </a:solidFill>
                <a:latin typeface="Calibri"/>
              </a:rPr>
              <a:t>estituie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x-none" sz="1600" spc="-1" strike="noStrike">
                <a:solidFill>
                  <a:srgbClr val="000000"/>
                </a:solidFill>
                <a:latin typeface="Calibri"/>
              </a:rPr>
              <a:t>întreaga sumă rambursată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0" lang="x-non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x-none" sz="1600" spc="-1" strike="noStrike">
                <a:solidFill>
                  <a:srgbClr val="000000"/>
                </a:solidFill>
                <a:latin typeface="Calibri"/>
              </a:rPr>
              <a:t>dobânzile/penalizările aferente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– dac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NU se asigură acces la proiect + documente + sisteme informatice - Art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7 alin. (6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Contractul a fost reziliat – și au fost efectuate plăț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 startAt="3"/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plicarea de corec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ții financiare (%) pentru nerespectarea procedurilor de achiziții publice - în conformitate cu prevederile OUG 66/201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601"/>
              </a:spcBef>
            </a:pPr>
            <a:r>
              <a:rPr b="0" i="1" lang="ro-RO" sz="1600" spc="-1" strike="noStrike">
                <a:solidFill>
                  <a:srgbClr val="000000"/>
                </a:solidFill>
                <a:latin typeface="Calibri"/>
              </a:rPr>
              <a:t>Art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i="1" lang="ro-RO" sz="1600" spc="-1" strike="noStrike">
                <a:solidFill>
                  <a:srgbClr val="000000"/>
                </a:solidFill>
                <a:latin typeface="Calibri"/>
              </a:rPr>
              <a:t> 7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.(5) </a:t>
            </a:r>
            <a:r>
              <a:rPr b="0" i="1" lang="ro-RO" sz="1600" spc="-1" strike="noStrike">
                <a:solidFill>
                  <a:srgbClr val="000000"/>
                </a:solidFill>
                <a:latin typeface="Calibri"/>
              </a:rPr>
              <a:t>Beneficiarul/partenerii au obligația de a pune la dispoziția AM/OI, sau oricărui alt organism abilitat de lege documentele și/sau informațiile necesare pentru verificarea modului de utilizare a finanțării nerambursabile, la cerere și în termen de maximum 5 (cinci) zile lucrătoare, și să asigure condițiile pentru efectuarea verificărilor la fața loculu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601"/>
              </a:spcBef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(8) </a:t>
            </a:r>
            <a:r>
              <a:rPr b="0" i="1" lang="ro-RO" sz="1600" spc="-1" strike="noStrike">
                <a:solidFill>
                  <a:srgbClr val="000000"/>
                </a:solidFill>
                <a:latin typeface="Calibri"/>
              </a:rPr>
              <a:t>Beneficiarul are obligaţia îndosarierii și păstrării tuturor documentelor proiectului în original precum şi copii ale documentelor partenerilor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….. </a:t>
            </a:r>
            <a:r>
              <a:rPr b="0" i="1" lang="x-none" sz="1600" spc="-1" strike="noStrike">
                <a:solidFill>
                  <a:srgbClr val="000000"/>
                </a:solidFill>
                <a:latin typeface="Calibri"/>
              </a:rPr>
              <a:t>Toate documentele vor fi păstrate până la închiderea oficială a Programului sau până la expirarea perioadei de durabilitate a proiectului, oricare intervine ultim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Num" idx="25"/>
          </p:nvPr>
        </p:nvSpPr>
        <p:spPr>
          <a:xfrm>
            <a:off x="7092360" y="6435000"/>
            <a:ext cx="431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o-RO" sz="12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E18350-A073-40B7-8E77-0BB61F04766E}" type="slidenum">
              <a:rPr b="0" lang="ro-RO" sz="1200" spc="-1" strike="noStrike">
                <a:solidFill>
                  <a:srgbClr val="8b8b8b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rcRect l="0" t="0" r="661" b="0"/>
          <a:stretch/>
        </p:blipFill>
        <p:spPr>
          <a:xfrm>
            <a:off x="0" y="6341760"/>
            <a:ext cx="9143640" cy="15408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5"/>
          <p:cNvSpPr/>
          <p:nvPr/>
        </p:nvSpPr>
        <p:spPr>
          <a:xfrm>
            <a:off x="2393640" y="6541200"/>
            <a:ext cx="4650840" cy="30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www.inforegio.ro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Segoe UI"/>
              </a:rPr>
              <a:t>     </a:t>
            </a: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|     facebook.com/inforegio.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8"/>
          <p:cNvSpPr/>
          <p:nvPr/>
        </p:nvSpPr>
        <p:spPr>
          <a:xfrm>
            <a:off x="467640" y="620640"/>
            <a:ext cx="8365320" cy="51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ONTRACTUL DE FINANTAR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ONDITII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PECIFICE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APLICABILE POR 2014-20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000000"/>
              </a:buClr>
              <a:buFont typeface="Arial"/>
              <a:buChar char="•"/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Beneficiarul se obligă să implementeze Proiectul pe propria răspundere conform Contractului de finanțare (+ anexele acestuia) şi ale legislaţiei europene şi naţionale în vigoar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000000"/>
              </a:buClr>
              <a:buFont typeface="Arial"/>
              <a:buChar char="•"/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Beneficiarul va fi singurul răspunzător în faţa AM şi OI pentru îndeplinirea obligaţiilor asumate prin Contractul de finanțar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000000"/>
              </a:buClr>
              <a:buFont typeface="Arial"/>
              <a:buChar char="•"/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Beneficiarul declară și se angajează, irevocabil şi necondiţionat, să utilizeze finanţarea exclusiv în conditiile Contractului de finanţar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000000"/>
              </a:buClr>
              <a:buFont typeface="Arial"/>
              <a:buChar char="•"/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Beneficiarul are obligaţia de a respecta instrucțiunile emise de A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000000"/>
              </a:buClr>
              <a:buFont typeface="Arial"/>
              <a:buChar char="•"/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Beneficiarul se obligă 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să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NU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dezmembreze bunurile imobile fără acordul scris  al A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înstrăineze obiectele/bunurile, mobile sau imobile până la finalul perioadei de durabilitat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000000"/>
              </a:buClr>
              <a:buFont typeface="Arial"/>
              <a:buChar char="•"/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Beneficiarul poate ipoteca obiectele/bunurile, conform prevederilor legale în vigoare, astf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în perioada de implementare exclusiv în scopul realizării proiectulu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în perioada de durabilitate a proiectului, pentru asigurarea sustenabilităţii investiţie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Num" idx="26"/>
          </p:nvPr>
        </p:nvSpPr>
        <p:spPr>
          <a:xfrm>
            <a:off x="7092360" y="6465600"/>
            <a:ext cx="503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o-RO" sz="12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207DBE2-A11C-4025-B49C-894BF42E91F5}" type="slidenum">
              <a:rPr b="0" lang="ro-RO" sz="1200" spc="-1" strike="noStrike">
                <a:solidFill>
                  <a:srgbClr val="8b8b8b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1"/>
          <a:srcRect l="0" t="0" r="661" b="0"/>
          <a:stretch/>
        </p:blipFill>
        <p:spPr>
          <a:xfrm>
            <a:off x="0" y="6341760"/>
            <a:ext cx="9143640" cy="1540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4"/>
          <p:cNvSpPr/>
          <p:nvPr/>
        </p:nvSpPr>
        <p:spPr>
          <a:xfrm>
            <a:off x="2393640" y="6541200"/>
            <a:ext cx="4650840" cy="30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www.inforegio.ro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Segoe UI"/>
              </a:rPr>
              <a:t>     </a:t>
            </a: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|     facebook.com/inforegio.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8"/>
          <p:cNvSpPr/>
          <p:nvPr/>
        </p:nvSpPr>
        <p:spPr>
          <a:xfrm>
            <a:off x="611640" y="620640"/>
            <a:ext cx="8077320" cy="51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DITII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PECIFICE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 APLICABILE POR 2014-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În perioada de durabilitate - Beneficiarul are obligaţia de a 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NU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000000"/>
              </a:buClr>
              <a:buFont typeface="Arial"/>
              <a:buChar char="•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realiza o modificare  a proprietății asupra unui element de infrastructură care dă un avantaj nejustificat unui terţ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000000"/>
              </a:buClr>
              <a:buFont typeface="Arial"/>
              <a:buChar char="•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realiza o modificare substanțială care afectează natura, obiectivele sau condițiile de realizare și care ar determina subminarea obiectivelor inițiale ale acestei operaţiu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85840" indent="-2858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În cazul unui contract de ipotecă Beneficiarul are obligaţia de a transmite la OI/AM o copie legalizată a extrasului de carte funciară cu menţiunea înregistrării ipotecii, în termen de </a:t>
            </a:r>
            <a:r>
              <a:rPr b="0" lang="ro-RO" sz="1800" spc="-1" strike="noStrike" u="sng">
                <a:solidFill>
                  <a:srgbClr val="000000"/>
                </a:solidFill>
                <a:uFillTx/>
                <a:latin typeface="Calibri"/>
              </a:rPr>
              <a:t>30 zile lucrătoare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de la efectuarea înregistrărilor în Registrul de carte funciar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CR/Cr. plată, RP, notificările, precum şi orice alt document oficial transmis AM /OI vor fi 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semnate de către reprezentantul legal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sau 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persaoana împuternicită –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Împuternicirea va menționa clar drepturile delegat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Num" idx="27"/>
          </p:nvPr>
        </p:nvSpPr>
        <p:spPr>
          <a:xfrm>
            <a:off x="7092360" y="6489360"/>
            <a:ext cx="503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o-RO" sz="12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702AF67-6E70-465D-A59F-0F4069CDB7F6}" type="slidenum">
              <a:rPr b="0" lang="ro-RO" sz="1200" spc="-1" strike="noStrike">
                <a:solidFill>
                  <a:srgbClr val="8b8b8b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1"/>
          <a:srcRect l="0" t="0" r="661" b="0"/>
          <a:stretch/>
        </p:blipFill>
        <p:spPr>
          <a:xfrm>
            <a:off x="0" y="6341760"/>
            <a:ext cx="9143640" cy="1540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4"/>
          <p:cNvSpPr/>
          <p:nvPr/>
        </p:nvSpPr>
        <p:spPr>
          <a:xfrm>
            <a:off x="2393640" y="6541200"/>
            <a:ext cx="4650840" cy="30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www.inforegio.ro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Segoe UI"/>
              </a:rPr>
              <a:t>     </a:t>
            </a: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|     facebook.com/inforegio.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Imagine 7" descr="Idea_images.png"/>
          <p:cNvPicPr/>
          <p:nvPr/>
        </p:nvPicPr>
        <p:blipFill>
          <a:blip r:embed="rId1"/>
          <a:stretch/>
        </p:blipFill>
        <p:spPr>
          <a:xfrm>
            <a:off x="467640" y="764640"/>
            <a:ext cx="1583640" cy="198288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9"/>
          <p:cNvSpPr/>
          <p:nvPr/>
        </p:nvSpPr>
        <p:spPr>
          <a:xfrm>
            <a:off x="731880" y="476640"/>
            <a:ext cx="8077320" cy="54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DITII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PECIFICE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 APLICABILE POR 2014-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30000"/>
              </a:lnSpc>
              <a:buClr>
                <a:srgbClr val="000000"/>
              </a:buClr>
              <a:buFont typeface="Arial"/>
              <a:buChar char="•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În cazul contractării unui credit Beneficiarul are obligaţia de a utiliza exclusiv contul creditului pentru plata de achiziții necesare pentru implementarea proiectulu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30000"/>
              </a:lnSpc>
              <a:buClr>
                <a:srgbClr val="000000"/>
              </a:buClr>
              <a:buFont typeface="Arial"/>
              <a:buChar char="•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Beneficiarul trebuie să ia masuri pentru obţinerea avizelor/autorizaţiilor/ acreditărilor/ licenţelor/etc. necesare pentr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realizarea activităţilor PROIECTULU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desfăşurarea în condiţii legale a activităţii sa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000000"/>
              </a:buClr>
              <a:buFont typeface="Arial"/>
              <a:buChar char="•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Beneficiarul are obligația s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asigure arhivarea electronică a documentației aferente proiectului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o transmită la OI, la solicitarea acestu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000000"/>
              </a:buClr>
              <a:buFont typeface="Arial"/>
              <a:buChar char="•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Documentațiile de achiziție lucrări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se depun  la OI, 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în 10 zile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de la intrarea in vigoare a contractului de finanțare – pt. lucrări începute și nefinaliza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30000"/>
              </a:lnSpc>
              <a:buClr>
                <a:srgbClr val="000000"/>
              </a:buClr>
              <a:buFont typeface="Arial"/>
              <a:buChar char="•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Pentru proiecte generatoare de venituri – obligația de a informa anual, asupra veniturilor nete generate de proi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Num" idx="28"/>
          </p:nvPr>
        </p:nvSpPr>
        <p:spPr>
          <a:xfrm>
            <a:off x="7164360" y="6453360"/>
            <a:ext cx="431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o-RO" sz="12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F85ECF1-9A98-4DC6-A4BB-A18F6B94878F}" type="slidenum">
              <a:rPr b="0" lang="ro-RO" sz="1200" spc="-1" strike="noStrike">
                <a:solidFill>
                  <a:srgbClr val="8b8b8b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2"/>
          <a:srcRect l="0" t="0" r="661" b="0"/>
          <a:stretch/>
        </p:blipFill>
        <p:spPr>
          <a:xfrm>
            <a:off x="0" y="6341760"/>
            <a:ext cx="9143640" cy="1540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5"/>
          <p:cNvSpPr/>
          <p:nvPr/>
        </p:nvSpPr>
        <p:spPr>
          <a:xfrm>
            <a:off x="2393640" y="6541200"/>
            <a:ext cx="4650840" cy="30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www.inforegio.ro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Segoe UI"/>
              </a:rPr>
              <a:t>     </a:t>
            </a: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|     facebook.com/inforegio.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Imagine 7" descr="Idea_images.png"/>
          <p:cNvPicPr/>
          <p:nvPr/>
        </p:nvPicPr>
        <p:blipFill>
          <a:blip r:embed="rId1"/>
          <a:stretch/>
        </p:blipFill>
        <p:spPr>
          <a:xfrm>
            <a:off x="467640" y="764640"/>
            <a:ext cx="1583640" cy="19828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2"/>
          <p:cNvSpPr/>
          <p:nvPr/>
        </p:nvSpPr>
        <p:spPr>
          <a:xfrm>
            <a:off x="706680" y="332640"/>
            <a:ext cx="807732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DITII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PECIFICE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 APLICABILE POR 2014-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AM poate rezilia unilateral contractul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și recupera finanțarea nerambursabilă acordată pentru neîndeplinirea angajamentelor privind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30000"/>
              </a:lnSpc>
              <a:buClr>
                <a:srgbClr val="000000"/>
              </a:buClr>
              <a:buFont typeface="Arial"/>
              <a:buChar char="•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îmbunătățire a calității mediului înconjurător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30000"/>
              </a:lnSpc>
              <a:buClr>
                <a:srgbClr val="000000"/>
              </a:buClr>
              <a:buFont typeface="Arial"/>
              <a:buChar char="•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creșterea eficienței energe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30000"/>
              </a:lnSpc>
              <a:buClr>
                <a:srgbClr val="000000"/>
              </a:buClr>
              <a:buFont typeface="Arial"/>
              <a:buChar char="•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asigurare a egalității de șanse și tratamen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30000"/>
              </a:lnSpc>
              <a:buClr>
                <a:srgbClr val="000000"/>
              </a:buClr>
              <a:buFont typeface="Arial"/>
              <a:buChar char="•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adaptarea infrastructurii pentru accesul persoanelor cu dizabilităţ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AM poate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decide 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rezilierea/suspendarea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contractului (conform art. 7, alin. (22) din Condițiile genera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Dacă CR Fin. prevede angajarea de persoane defavorizate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, beneficiarul va demonstra angajarea a cel puțin unei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oane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defavorizată sau va justifica imposibilitatea realizării acestei activități, </a:t>
            </a:r>
            <a:r>
              <a:rPr b="0" lang="ro-RO" sz="1800" spc="-1" strike="noStrike" u="sng">
                <a:solidFill>
                  <a:srgbClr val="000000"/>
                </a:solidFill>
                <a:uFillTx/>
                <a:latin typeface="Calibri"/>
              </a:rPr>
              <a:t>până la finalizarea perioadei de implementare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AM poate dezangaja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, prin notificare unilaterală, fondurile neutilizate ca urmarea a finalizării implementării contractului/ contractelor de achiziție - în maximum 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10 zile lucrătoare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de la primirea notificării de la OI/Benefici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Num" idx="29"/>
          </p:nvPr>
        </p:nvSpPr>
        <p:spPr>
          <a:xfrm>
            <a:off x="7020360" y="6492960"/>
            <a:ext cx="575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o-RO" sz="12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6754CAF-F8A3-4458-A161-F844AE125C88}" type="slidenum">
              <a:rPr b="0" lang="ro-RO" sz="1200" spc="-1" strike="noStrike">
                <a:solidFill>
                  <a:srgbClr val="8b8b8b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2"/>
          <a:srcRect l="0" t="0" r="661" b="0"/>
          <a:stretch/>
        </p:blipFill>
        <p:spPr>
          <a:xfrm>
            <a:off x="0" y="6341760"/>
            <a:ext cx="9143640" cy="15408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5"/>
          <p:cNvSpPr/>
          <p:nvPr/>
        </p:nvSpPr>
        <p:spPr>
          <a:xfrm>
            <a:off x="2393640" y="6541200"/>
            <a:ext cx="4650840" cy="30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www.inforegio.ro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Segoe UI"/>
              </a:rPr>
              <a:t>     </a:t>
            </a: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|     facebook.com/inforegio.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Imagine 7" descr="Idea_images.png"/>
          <p:cNvPicPr/>
          <p:nvPr/>
        </p:nvPicPr>
        <p:blipFill>
          <a:blip r:embed="rId1"/>
          <a:stretch/>
        </p:blipFill>
        <p:spPr>
          <a:xfrm>
            <a:off x="467640" y="764640"/>
            <a:ext cx="1583640" cy="198288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2"/>
          <p:cNvSpPr/>
          <p:nvPr/>
        </p:nvSpPr>
        <p:spPr>
          <a:xfrm>
            <a:off x="755640" y="908640"/>
            <a:ext cx="8077320" cy="32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DITII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PECIFICE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 APLICABILE POR 2014-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x-none" sz="1800" spc="-1" strike="noStrike">
                <a:solidFill>
                  <a:srgbClr val="000000"/>
                </a:solidFill>
                <a:latin typeface="Calibri"/>
              </a:rPr>
              <a:t>Articolul 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x-none" sz="18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x-none" sz="1800" spc="-1" strike="noStrike">
                <a:solidFill>
                  <a:srgbClr val="000000"/>
                </a:solidFill>
                <a:latin typeface="Calibri"/>
              </a:rPr>
              <a:t>Condiții generale 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- PARTENERIATE</a:t>
            </a:r>
            <a:r>
              <a:rPr b="1" lang="x-none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30000"/>
              </a:lnSpc>
              <a:buClr>
                <a:srgbClr val="000000"/>
              </a:buClr>
              <a:buFont typeface="Arial"/>
              <a:buChar char="•"/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PARTENERII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- respectă întocmai şi în integralitate  Contractul de finanțar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30000"/>
              </a:lnSpc>
              <a:buClr>
                <a:srgbClr val="000000"/>
              </a:buClr>
              <a:buFont typeface="Arial"/>
              <a:buChar char="•"/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LIDERUL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parteneriatului, răspunde în faţa AM şi OI de îndeplinirea Contractului de către partener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30000"/>
              </a:lnSpc>
              <a:buClr>
                <a:srgbClr val="000000"/>
              </a:buClr>
              <a:buFont typeface="Arial"/>
              <a:buChar char="•"/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LIDERUL este responsabil cu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transmiterea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Cr.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lată/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RP,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ătre OI/AM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30000"/>
              </a:lnSpc>
              <a:buClr>
                <a:srgbClr val="000000"/>
              </a:buClr>
              <a:buFont typeface="Arial"/>
              <a:buChar char="•"/>
            </a:pPr>
            <a:r>
              <a:rPr b="1" lang="ro-RO" sz="1800" spc="-1" strike="noStrike" u="sng">
                <a:solidFill>
                  <a:srgbClr val="000000"/>
                </a:solidFill>
                <a:uFillTx/>
                <a:latin typeface="Calibri"/>
              </a:rPr>
              <a:t>Cheltuielile sunt eligibile - Lider + Partener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30000"/>
              </a:lnSpc>
              <a:buClr>
                <a:srgbClr val="000000"/>
              </a:buClr>
              <a:buFont typeface="Arial"/>
              <a:buChar char="•"/>
            </a:pPr>
            <a:r>
              <a:rPr b="1" lang="ro-RO" sz="1800" spc="-1" strike="noStrike" u="sng">
                <a:solidFill>
                  <a:srgbClr val="000000"/>
                </a:solidFill>
                <a:uFillTx/>
                <a:latin typeface="Calibri"/>
              </a:rPr>
              <a:t>Notificările și titlurile de creanță se emit pe numele liderului de parteneriat/ partenerului care a efectuat cheltuielile afectate de neregul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Num" idx="30"/>
          </p:nvPr>
        </p:nvSpPr>
        <p:spPr>
          <a:xfrm>
            <a:off x="7092360" y="6492960"/>
            <a:ext cx="503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o-RO" sz="12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7704EB6-DA99-452E-A350-53DF006B961C}" type="slidenum">
              <a:rPr b="0" lang="ro-RO" sz="1200" spc="-1" strike="noStrike">
                <a:solidFill>
                  <a:srgbClr val="8b8b8b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2"/>
          <a:srcRect l="0" t="0" r="661" b="0"/>
          <a:stretch/>
        </p:blipFill>
        <p:spPr>
          <a:xfrm>
            <a:off x="0" y="6341760"/>
            <a:ext cx="9143640" cy="15408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2393640" y="6541200"/>
            <a:ext cx="4650840" cy="30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www.inforegio.ro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Segoe UI"/>
              </a:rPr>
              <a:t>     </a:t>
            </a: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|     facebook.com/inforegio.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Imagine 7" descr="Idea_images.png"/>
          <p:cNvPicPr/>
          <p:nvPr/>
        </p:nvPicPr>
        <p:blipFill>
          <a:blip r:embed="rId1"/>
          <a:stretch/>
        </p:blipFill>
        <p:spPr>
          <a:xfrm>
            <a:off x="467640" y="764640"/>
            <a:ext cx="1583640" cy="19828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2"/>
          <p:cNvSpPr/>
          <p:nvPr/>
        </p:nvSpPr>
        <p:spPr>
          <a:xfrm>
            <a:off x="611640" y="1299600"/>
            <a:ext cx="8077320" cy="37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DITII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PECIFICE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 APLICABILE POR 2014-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</a:pPr>
            <a:r>
              <a:rPr b="1" lang="x-none" sz="1800" spc="-1" strike="noStrike">
                <a:solidFill>
                  <a:srgbClr val="000000"/>
                </a:solidFill>
                <a:latin typeface="Calibri"/>
              </a:rPr>
              <a:t>MODIFICAREA CONTRACTULUI DE FINANȚ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000000"/>
              </a:buClr>
              <a:buFont typeface="Arial"/>
              <a:buChar char="•"/>
            </a:pPr>
            <a:r>
              <a:rPr b="1" lang="ro-RO" sz="1800" spc="-1" strike="noStrike" u="sng">
                <a:solidFill>
                  <a:srgbClr val="000000"/>
                </a:solidFill>
                <a:uFillTx/>
                <a:latin typeface="Calibri"/>
              </a:rPr>
              <a:t>Orice modificare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a Contractului 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NU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poate conduce la creşterea valorii finanţării nerambursabile şi/sau a procentului din valoarea totală eligibilă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30000"/>
              </a:lnSpc>
              <a:buClr>
                <a:srgbClr val="000000"/>
              </a:buClr>
              <a:buFont typeface="Arial"/>
              <a:buChar char="•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Prelungirea perioadei de implementare 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NU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se poate realiza în nici un caz după expirarea aceste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30000"/>
              </a:lnSpc>
              <a:buClr>
                <a:srgbClr val="000000"/>
              </a:buClr>
              <a:buFont typeface="Arial"/>
              <a:buChar char="•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ECONOMIILE se pot utiliza în scopul implementării Proiectului, cu acordul prealabil al AM, și fără a afecta obiectivul Proiectului, prin act adiț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cu respectarea Condițiilor generale și specific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Num" idx="31"/>
          </p:nvPr>
        </p:nvSpPr>
        <p:spPr>
          <a:xfrm>
            <a:off x="7020360" y="6492960"/>
            <a:ext cx="575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o-RO" sz="12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9BEEAF-CBA5-4406-AFA9-AB0ABDE574FB}" type="slidenum">
              <a:rPr b="0" lang="ro-RO" sz="1200" spc="-1" strike="noStrike">
                <a:solidFill>
                  <a:srgbClr val="8b8b8b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2"/>
          <a:srcRect l="0" t="0" r="661" b="0"/>
          <a:stretch/>
        </p:blipFill>
        <p:spPr>
          <a:xfrm>
            <a:off x="0" y="6341760"/>
            <a:ext cx="9143640" cy="15408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5"/>
          <p:cNvSpPr/>
          <p:nvPr/>
        </p:nvSpPr>
        <p:spPr>
          <a:xfrm>
            <a:off x="2393640" y="6541200"/>
            <a:ext cx="4650840" cy="30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www.inforegio.ro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Segoe UI"/>
              </a:rPr>
              <a:t>     </a:t>
            </a: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|     facebook.com/inforegio.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3640" y="1268640"/>
            <a:ext cx="8229240" cy="47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DRUL JURIDIC</a:t>
            </a:r>
            <a:br>
              <a:rPr sz="1800"/>
            </a:br>
            <a:r>
              <a:rPr b="0" lang="en-US" sz="1800" spc="-1" strike="noStrike">
                <a:solidFill>
                  <a:srgbClr val="9d1e23"/>
                </a:solidFill>
                <a:latin typeface="Calibri"/>
              </a:rPr>
              <a:t>─  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Regulamentul (UE) nr. 1303/2013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al Parlamentului European si al Consiliului din 17 decembrie 201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privind FEDR, FSE, FC, FEADR;</a:t>
            </a:r>
            <a:br>
              <a:rPr sz="1800"/>
            </a:br>
            <a:r>
              <a:rPr b="0" lang="en-US" sz="1800" spc="-1" strike="noStrike">
                <a:solidFill>
                  <a:srgbClr val="9d1e23"/>
                </a:solidFill>
                <a:latin typeface="Calibri"/>
              </a:rPr>
              <a:t>─ 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Regulamentul de punere în aplicar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(UE) nr. 964/2014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al 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din 11 sep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4;</a:t>
            </a:r>
            <a:br>
              <a:rPr sz="1800"/>
            </a:br>
            <a:r>
              <a:rPr b="0" lang="en-US" sz="1800" spc="-1" strike="noStrike">
                <a:solidFill>
                  <a:srgbClr val="9d1e23"/>
                </a:solidFill>
                <a:latin typeface="Calibri"/>
              </a:rPr>
              <a:t>─ 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Regulamentul de punere în aplicare (UE) nr. 821/2014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al 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br>
              <a:rPr sz="1800"/>
            </a:br>
            <a:r>
              <a:rPr b="0" lang="en-US" sz="1800" spc="-1" strike="noStrike">
                <a:solidFill>
                  <a:srgbClr val="9d1e23"/>
                </a:solidFill>
                <a:latin typeface="Calibri"/>
              </a:rPr>
              <a:t>─ 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Regulamentul de punere în aplicare (UE) nr. 1011/2014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al 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;</a:t>
            </a:r>
            <a:br>
              <a:rPr sz="1800"/>
            </a:br>
            <a:r>
              <a:rPr b="0" lang="en-US" sz="1800" spc="-1" strike="noStrike">
                <a:solidFill>
                  <a:srgbClr val="9d1e23"/>
                </a:solidFill>
                <a:latin typeface="Calibri"/>
              </a:rPr>
              <a:t>─ 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Regulamentul (UE) nr. 1301/2013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al Parlamentului European și al Consiliului din 17 decembrie 201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privind FEDR;</a:t>
            </a:r>
            <a:br>
              <a:rPr sz="1800"/>
            </a:br>
            <a:r>
              <a:rPr b="0" lang="en-US" sz="1800" spc="-1" strike="noStrike">
                <a:solidFill>
                  <a:srgbClr val="9d1e23"/>
                </a:solidFill>
                <a:latin typeface="Calibri"/>
              </a:rPr>
              <a:t>─ 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Acordul de Parteneriat 2014-2020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;</a:t>
            </a:r>
            <a:br>
              <a:rPr sz="1800"/>
            </a:br>
            <a:r>
              <a:rPr b="0" lang="en-US" sz="1800" spc="-1" strike="noStrike">
                <a:solidFill>
                  <a:srgbClr val="9d1e23"/>
                </a:solidFill>
                <a:latin typeface="Calibri"/>
              </a:rPr>
              <a:t>─ 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Decizia Comisiei Europene nr. C (2015) 4272/23.06.2015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 aprobare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POR 2014-202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ro-RO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ldNum" idx="14"/>
          </p:nvPr>
        </p:nvSpPr>
        <p:spPr>
          <a:xfrm>
            <a:off x="6732360" y="6456960"/>
            <a:ext cx="466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o-RO" sz="12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C203A98-BFDD-4DD4-8161-2E11618FB564}" type="slidenum">
              <a:rPr b="0" lang="ro-RO" sz="1200" spc="-1" strike="noStrike">
                <a:solidFill>
                  <a:srgbClr val="8b8b8b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rcRect l="0" t="0" r="661" b="0"/>
          <a:stretch/>
        </p:blipFill>
        <p:spPr>
          <a:xfrm>
            <a:off x="0" y="6341760"/>
            <a:ext cx="9143640" cy="15408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4"/>
          <p:cNvSpPr/>
          <p:nvPr/>
        </p:nvSpPr>
        <p:spPr>
          <a:xfrm>
            <a:off x="2393640" y="6541200"/>
            <a:ext cx="4650840" cy="30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www.inforegio.ro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Segoe UI"/>
              </a:rPr>
              <a:t>     </a:t>
            </a: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|     facebook.com/inforegio.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Imagine 7" descr="Idea_images.png"/>
          <p:cNvPicPr/>
          <p:nvPr/>
        </p:nvPicPr>
        <p:blipFill>
          <a:blip r:embed="rId1"/>
          <a:stretch/>
        </p:blipFill>
        <p:spPr>
          <a:xfrm>
            <a:off x="467640" y="764640"/>
            <a:ext cx="1583640" cy="198288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2"/>
          <p:cNvSpPr/>
          <p:nvPr/>
        </p:nvSpPr>
        <p:spPr>
          <a:xfrm>
            <a:off x="583560" y="980640"/>
            <a:ext cx="8077320" cy="44427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DITII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PECIFICE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 APLICABILE POR 2014-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</a:pPr>
            <a:r>
              <a:rPr b="1" lang="x-none" sz="1800" spc="-1" strike="noStrike">
                <a:solidFill>
                  <a:srgbClr val="000000"/>
                </a:solidFill>
                <a:latin typeface="Calibri"/>
              </a:rPr>
              <a:t>MODIFICAREA CONTRACTULUI DE FINANȚ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30000"/>
              </a:lnSpc>
              <a:buClr>
                <a:srgbClr val="000000"/>
              </a:buClr>
              <a:buFont typeface="Arial"/>
              <a:buChar char="•"/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Schimbarea componenţei parteneriatului – în condiţii cumula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este confirmată printr-un act adiţion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este determinată de retragere partener/partener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Partenerul/partenerii se angajează să preia toate drepturile şi obligaţiile, inclusiv întregul cuantum al cofinanţării eligibile şi neeligibi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Notă: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În acest caz, beneficiarul este obligat să transmită, împreună cu cererea de modificare a contractului de finanțare, şi documentele din care să reiasă acest angajament, precum şi asigurarea fondurilor necesa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457200" algn="just">
              <a:lnSpc>
                <a:spcPct val="130000"/>
              </a:lnSpc>
              <a:buClr>
                <a:srgbClr val="000000"/>
              </a:buClr>
              <a:buFont typeface="Arial"/>
              <a:buChar char="•"/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Modificarea valorii totale -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exclusiv prin contribuţie proprie – din NEELIGIBIL; 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Notă: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beneficiarul face angajament + dovada disponibilității fondurilor necesar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Num" idx="32"/>
          </p:nvPr>
        </p:nvSpPr>
        <p:spPr>
          <a:xfrm>
            <a:off x="7020360" y="6453360"/>
            <a:ext cx="575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o-RO" sz="12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8739267-2614-4D85-8A6D-63F3E294B582}" type="slidenum">
              <a:rPr b="0" lang="ro-RO" sz="1200" spc="-1" strike="noStrike">
                <a:solidFill>
                  <a:srgbClr val="8b8b8b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2"/>
          <a:srcRect l="0" t="0" r="661" b="0"/>
          <a:stretch/>
        </p:blipFill>
        <p:spPr>
          <a:xfrm>
            <a:off x="0" y="6341760"/>
            <a:ext cx="9143640" cy="15408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5"/>
          <p:cNvSpPr/>
          <p:nvPr/>
        </p:nvSpPr>
        <p:spPr>
          <a:xfrm>
            <a:off x="2393640" y="6541200"/>
            <a:ext cx="4650840" cy="30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www.inforegio.ro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Segoe UI"/>
              </a:rPr>
              <a:t>     </a:t>
            </a: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|     facebook.com/inforegio.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Imagine 7" descr="Idea_images.png"/>
          <p:cNvPicPr/>
          <p:nvPr/>
        </p:nvPicPr>
        <p:blipFill>
          <a:blip r:embed="rId1"/>
          <a:stretch/>
        </p:blipFill>
        <p:spPr>
          <a:xfrm>
            <a:off x="467640" y="764640"/>
            <a:ext cx="1583640" cy="198288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8"/>
          <p:cNvSpPr/>
          <p:nvPr/>
        </p:nvSpPr>
        <p:spPr>
          <a:xfrm>
            <a:off x="689400" y="980640"/>
            <a:ext cx="8077320" cy="38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DITII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PECIFICE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 APLICABILE POR 2014-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</a:pPr>
            <a:r>
              <a:rPr b="1" lang="x-none" sz="1800" spc="-1" strike="noStrike">
                <a:solidFill>
                  <a:srgbClr val="000000"/>
                </a:solidFill>
                <a:latin typeface="Calibri"/>
              </a:rPr>
              <a:t>MODIFICAREA CONTRACTULUI DE FINANȚARE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 – PRIN NOTIFI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Modificări asupra liniilor bugetare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o-RO" sz="1800" spc="-1" strike="noStrike" u="sng">
                <a:solidFill>
                  <a:srgbClr val="000000"/>
                </a:solidFill>
                <a:uFillTx/>
                <a:latin typeface="Calibri"/>
              </a:rPr>
              <a:t>fără a depăși li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m</a:t>
            </a:r>
            <a:r>
              <a:rPr b="0" lang="ro-RO" sz="1800" spc="-1" strike="noStrike" u="sng">
                <a:solidFill>
                  <a:srgbClr val="000000"/>
                </a:solidFill>
                <a:uFillTx/>
                <a:latin typeface="Calibri"/>
              </a:rPr>
              <a:t>itele maxime impu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</a:pPr>
            <a:r>
              <a:rPr b="1" lang="ro-RO" sz="1800" spc="-1" strike="noStrike" u="sng">
                <a:solidFill>
                  <a:srgbClr val="000000"/>
                </a:solidFill>
                <a:uFillTx/>
                <a:latin typeface="Calibri"/>
              </a:rPr>
              <a:t>Notă: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Bugetul modificat se transmite la </a:t>
            </a:r>
            <a:r>
              <a:rPr b="1" lang="ro-RO" sz="1800" spc="-1" strike="noStrike" u="sng">
                <a:solidFill>
                  <a:srgbClr val="000000"/>
                </a:solidFill>
                <a:uFillTx/>
                <a:latin typeface="Calibri"/>
              </a:rPr>
              <a:t>OI cu 10 zile lucrătoare înainte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de data intrarii în vigoare a modificări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30000"/>
              </a:lnSpc>
              <a:buClr>
                <a:srgbClr val="000000"/>
              </a:buClr>
              <a:buFont typeface="Arial"/>
              <a:buChar char="•"/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Modificarea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anexei 4 (patru)–Graficul de rambursare/plată – în funcție de CR/Cr.plată decontate de AM - în maxim de 10 (zece) zile lucrătoare de la efectuarea plății de A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30000"/>
              </a:lnSpc>
              <a:buClr>
                <a:srgbClr val="000000"/>
              </a:buClr>
              <a:buFont typeface="Arial"/>
              <a:buChar char="•"/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Modificarea anexei 2 (doi) - Cererea de finanţare -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Activităţile proiectului şi Calendarul activităţilor - </a:t>
            </a:r>
            <a:r>
              <a:rPr b="1" lang="ro-RO" sz="1800" spc="-1" strike="noStrike" u="sng">
                <a:solidFill>
                  <a:srgbClr val="000000"/>
                </a:solidFill>
                <a:uFillTx/>
                <a:latin typeface="Calibri"/>
              </a:rPr>
              <a:t>exclusiv planificarea în timp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Num" idx="33"/>
          </p:nvPr>
        </p:nvSpPr>
        <p:spPr>
          <a:xfrm>
            <a:off x="7092360" y="6453360"/>
            <a:ext cx="503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o-RO" sz="12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5BB361A-9DFF-471E-B278-77F06AEE2962}" type="slidenum">
              <a:rPr b="0" lang="ro-RO" sz="1200" spc="-1" strike="noStrike">
                <a:solidFill>
                  <a:srgbClr val="8b8b8b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2"/>
          <a:srcRect l="0" t="0" r="661" b="0"/>
          <a:stretch/>
        </p:blipFill>
        <p:spPr>
          <a:xfrm>
            <a:off x="0" y="6341760"/>
            <a:ext cx="9143640" cy="15408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5"/>
          <p:cNvSpPr/>
          <p:nvPr/>
        </p:nvSpPr>
        <p:spPr>
          <a:xfrm>
            <a:off x="2393640" y="6541200"/>
            <a:ext cx="4650840" cy="30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www.inforegio.ro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Segoe UI"/>
              </a:rPr>
              <a:t>     </a:t>
            </a: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|     facebook.com/inforegio.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Imagine 7" descr="Idea_images.png"/>
          <p:cNvPicPr/>
          <p:nvPr/>
        </p:nvPicPr>
        <p:blipFill>
          <a:blip r:embed="rId1"/>
          <a:stretch/>
        </p:blipFill>
        <p:spPr>
          <a:xfrm>
            <a:off x="467640" y="764640"/>
            <a:ext cx="1583640" cy="198288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5"/>
          <p:cNvSpPr/>
          <p:nvPr/>
        </p:nvSpPr>
        <p:spPr>
          <a:xfrm>
            <a:off x="615960" y="1412640"/>
            <a:ext cx="8077320" cy="44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DITII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PECIFICE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 APLICABILE POR 2014-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</a:pPr>
            <a:r>
              <a:rPr b="1" lang="x-none" sz="1800" spc="-1" strike="noStrike">
                <a:solidFill>
                  <a:srgbClr val="000000"/>
                </a:solidFill>
                <a:latin typeface="Calibri"/>
              </a:rPr>
              <a:t>MODIFICAREA CONTRACTULUI DE FINANȚARE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 – PRIN NOTIFI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000000"/>
              </a:buClr>
              <a:buFont typeface="Arial"/>
              <a:buChar char="•"/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Modificarea anexei 2 (doi) - Achiziţiile proiectului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- planificarea în timp, schimbarea procedurii, cumularea într-o singură procedură, separarea în mai multe proceduri - 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Condiții: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respectarea legislației + modificările să nu afecteze bugetul proiectulu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Notă: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Modificările vor fi aduse la cunoştinţa OI şi AM, 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în maxim 5 (cinci) zile lucrătoare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de la intrarea în vigoarea a modificăril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000000"/>
              </a:buClr>
              <a:buFont typeface="Arial"/>
              <a:buChar char="•"/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Modificarea anexei 2 (doi) -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actualizare caracteristici tehnice la echipamente şi dotări - 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Condiții:  înainte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lansării procedurii de achiziţie + să nu afecteze bugetul proiectului, indicatorii, valoarea achiziţiei, perioada de implementare + respectarea legislație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Num" idx="34"/>
          </p:nvPr>
        </p:nvSpPr>
        <p:spPr>
          <a:xfrm>
            <a:off x="7092360" y="6492960"/>
            <a:ext cx="503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o-RO" sz="12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FA9DBF-93F5-4605-8F11-798779367088}" type="slidenum">
              <a:rPr b="0" lang="ro-RO" sz="1200" spc="-1" strike="noStrike">
                <a:solidFill>
                  <a:srgbClr val="8b8b8b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2"/>
          <a:srcRect l="0" t="0" r="661" b="0"/>
          <a:stretch/>
        </p:blipFill>
        <p:spPr>
          <a:xfrm>
            <a:off x="0" y="6341760"/>
            <a:ext cx="9143640" cy="15408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6"/>
          <p:cNvSpPr/>
          <p:nvPr/>
        </p:nvSpPr>
        <p:spPr>
          <a:xfrm>
            <a:off x="2393640" y="6541200"/>
            <a:ext cx="4650840" cy="30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www.inforegio.ro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Segoe UI"/>
              </a:rPr>
              <a:t>     </a:t>
            </a: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|     facebook.com/inforegio.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Imagine 7" descr="Idea_images.png"/>
          <p:cNvPicPr/>
          <p:nvPr/>
        </p:nvPicPr>
        <p:blipFill>
          <a:blip r:embed="rId1"/>
          <a:stretch/>
        </p:blipFill>
        <p:spPr>
          <a:xfrm>
            <a:off x="467640" y="764640"/>
            <a:ext cx="1583640" cy="198288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5"/>
          <p:cNvSpPr/>
          <p:nvPr/>
        </p:nvSpPr>
        <p:spPr>
          <a:xfrm>
            <a:off x="623880" y="116640"/>
            <a:ext cx="8077320" cy="37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DITII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PECIFICE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 APLICABILE POR 2014-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</a:pPr>
            <a:r>
              <a:rPr b="1" lang="x-none" sz="1800" spc="-1" strike="noStrike">
                <a:solidFill>
                  <a:srgbClr val="000000"/>
                </a:solidFill>
                <a:latin typeface="Calibri"/>
              </a:rPr>
              <a:t>MODIFICAREA CONTRACTULUI DE FINANȚARE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 – PRIN NOTIFI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Beneficiarul este obligat să notifice AM /OI în scris şi fără întârzi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orice modificare legată de datele sale de identificare sau ale Reprezentanţilor săi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orice informaţie ce poate fi relevantă în relaţia sa cu AM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orice imprejurare economică sau juridică, care ar modifica situația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ț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de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momentul încheierii Contractului de finanţare, (după caz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orice propunere de modificare a Documentului Constitutiv sau altă procedură de restructurare organizatoric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orice proceduri administrative, judiciare sau arbitrale iniţiate împotriva sa, sau iminente; iminenţa oricărui caz de neîndeplinire sau culpă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Num" idx="35"/>
          </p:nvPr>
        </p:nvSpPr>
        <p:spPr>
          <a:xfrm>
            <a:off x="7092360" y="6453360"/>
            <a:ext cx="503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o-RO" sz="12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8144306-012F-48CC-ABEF-F671803C95FD}" type="slidenum">
              <a:rPr b="0" lang="ro-RO" sz="1200" spc="-1" strike="noStrike">
                <a:solidFill>
                  <a:srgbClr val="8b8b8b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4" descr=""/>
          <p:cNvPicPr/>
          <p:nvPr/>
        </p:nvPicPr>
        <p:blipFill>
          <a:blip r:embed="rId2"/>
          <a:srcRect l="0" t="0" r="661" b="0"/>
          <a:stretch/>
        </p:blipFill>
        <p:spPr>
          <a:xfrm>
            <a:off x="0" y="6341760"/>
            <a:ext cx="9143640" cy="15408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6"/>
          <p:cNvSpPr/>
          <p:nvPr/>
        </p:nvSpPr>
        <p:spPr>
          <a:xfrm>
            <a:off x="2393640" y="6541200"/>
            <a:ext cx="4650840" cy="30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www.inforegio.ro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Segoe UI"/>
              </a:rPr>
              <a:t>     </a:t>
            </a: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|     facebook.com/inforegio.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Imagine 7" descr="Idea_images.png"/>
          <p:cNvPicPr/>
          <p:nvPr/>
        </p:nvPicPr>
        <p:blipFill>
          <a:blip r:embed="rId1"/>
          <a:stretch/>
        </p:blipFill>
        <p:spPr>
          <a:xfrm>
            <a:off x="467640" y="764640"/>
            <a:ext cx="1583640" cy="19828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2"/>
          <p:cNvSpPr/>
          <p:nvPr/>
        </p:nvSpPr>
        <p:spPr>
          <a:xfrm>
            <a:off x="615600" y="404640"/>
            <a:ext cx="8077320" cy="51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DITII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PECIFICE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 APLICABILE POR 2014-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Î</a:t>
            </a:r>
            <a:r>
              <a:rPr b="1" lang="x-none" sz="1800" spc="-1" strike="noStrike">
                <a:solidFill>
                  <a:srgbClr val="000000"/>
                </a:solidFill>
                <a:latin typeface="Calibri"/>
              </a:rPr>
              <a:t>NCETAREA CONTRACT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În cazul nerespectării de către Beneficiar a prevederilor Contractului de finanțar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AM poate decide rezilierea unilateral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i="1" lang="ro-RO" sz="1800" spc="-1" strike="noStrike">
                <a:solidFill>
                  <a:srgbClr val="000000"/>
                </a:solidFill>
                <a:latin typeface="Calibri"/>
              </a:rPr>
              <a:t>Beneficiarul are obligația lansării achiziției de PT în maxim 6 (şase) luni, sau maxim 9 luni a achiziției principale de lucrar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Dacă Beneficiarul nu transmite la OI nicio cerere de rambursare în termen de maxim 12 luni de la data intrării în vigoare Contractului de finanțar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OI poate propune AM rezilierea acestui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AM poate suspenda plăţile, după notificarea prealabilă a Beneficiarului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vind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neîndeplinirea obligaţiilor sale contractua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Dacă se constată neconcordanţe între starea de fapt dovedită şi cele declarate de către Beneficiar în cererea de finanţare (în caz de dublă finanțar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Dacă se constată că, 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până la finalizarea perioadei de durabilitat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Beneficiarul constituie ipotecă asupra obiectelor / bunurilor, </a:t>
            </a:r>
            <a:r>
              <a:rPr b="1" i="1" lang="ro-RO" sz="1800" spc="-1" strike="noStrike">
                <a:solidFill>
                  <a:srgbClr val="000000"/>
                </a:solidFill>
                <a:latin typeface="Calibri"/>
              </a:rPr>
              <a:t>fără respectarea prevederilor Contractului de finanţ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Num" idx="36"/>
          </p:nvPr>
        </p:nvSpPr>
        <p:spPr>
          <a:xfrm>
            <a:off x="7020360" y="6489360"/>
            <a:ext cx="575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o-RO" sz="12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E04295E-48EB-49F5-B067-8C9BBC74A64F}" type="slidenum">
              <a:rPr b="0" lang="ro-RO" sz="1200" spc="-1" strike="noStrike">
                <a:solidFill>
                  <a:srgbClr val="8b8b8b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4" descr=""/>
          <p:cNvPicPr/>
          <p:nvPr/>
        </p:nvPicPr>
        <p:blipFill>
          <a:blip r:embed="rId2"/>
          <a:srcRect l="0" t="0" r="661" b="0"/>
          <a:stretch/>
        </p:blipFill>
        <p:spPr>
          <a:xfrm>
            <a:off x="0" y="6341760"/>
            <a:ext cx="9143640" cy="15408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5"/>
          <p:cNvSpPr/>
          <p:nvPr/>
        </p:nvSpPr>
        <p:spPr>
          <a:xfrm>
            <a:off x="2393640" y="6541200"/>
            <a:ext cx="4650840" cy="30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www.inforegio.ro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Segoe UI"/>
              </a:rPr>
              <a:t>     </a:t>
            </a: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|     facebook.com/inforegio.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Imagine 7" descr="Idea_images.png"/>
          <p:cNvPicPr/>
          <p:nvPr/>
        </p:nvPicPr>
        <p:blipFill>
          <a:blip r:embed="rId1"/>
          <a:stretch/>
        </p:blipFill>
        <p:spPr>
          <a:xfrm>
            <a:off x="467640" y="764640"/>
            <a:ext cx="1583640" cy="198288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2"/>
          <p:cNvSpPr/>
          <p:nvPr/>
        </p:nvSpPr>
        <p:spPr>
          <a:xfrm>
            <a:off x="611640" y="548640"/>
            <a:ext cx="8077320" cy="47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DITII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PECIFICE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 APLICABILE POR 2014-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Î</a:t>
            </a:r>
            <a:r>
              <a:rPr b="1" lang="x-none" sz="1800" spc="-1" strike="noStrike">
                <a:solidFill>
                  <a:srgbClr val="000000"/>
                </a:solidFill>
                <a:latin typeface="Calibri"/>
              </a:rPr>
              <a:t>NCETAREA CONTRACT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000000"/>
              </a:buClr>
              <a:buFont typeface="Arial"/>
              <a:buChar char="•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Dacă se constată încălcarea prevederilor art. 7 alin. (5)-(6), (8) și (11) din Condițiile generale, precum și art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, alin. (5), (11), (12) și (23) ale prezentei secțiun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000000"/>
              </a:buClr>
              <a:buFont typeface="Arial"/>
              <a:buChar char="•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Pentru proiectele care au contractul de lucrări încheiat înainte de intrarea în vigoare a contractului de finanțare, dacă se constată necesitatea aplicării de corecții financiare în procent de  100% din valoarea contractulu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000000"/>
              </a:buClr>
              <a:buFont typeface="Arial"/>
              <a:buChar char="•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Orice modificare a componenţei parteneriatului cu încălcarea prevederilor art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, alin. (4) al prezentei secțiuni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000000"/>
              </a:buClr>
              <a:buFont typeface="Arial"/>
              <a:buChar char="•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Dacă până la finalizarea perioadei de durabilitate, proiectul este declarat neeligibil - 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Beneficiarul are obligaţia de a informa OI/AM în termen de 15 (cincisprezece) zile calendaristice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- orice situaţie care determină sau poate determina neeligibilitatea Proiectulu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Num" idx="37"/>
          </p:nvPr>
        </p:nvSpPr>
        <p:spPr>
          <a:xfrm>
            <a:off x="7092360" y="6465600"/>
            <a:ext cx="503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o-RO" sz="12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7BD6EF9-DA0A-42C2-99FB-CF336AE8B9C5}" type="slidenum">
              <a:rPr b="0" lang="ro-RO" sz="1200" spc="-1" strike="noStrike">
                <a:solidFill>
                  <a:srgbClr val="8b8b8b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2"/>
          <a:srcRect l="0" t="0" r="661" b="0"/>
          <a:stretch/>
        </p:blipFill>
        <p:spPr>
          <a:xfrm>
            <a:off x="0" y="6341760"/>
            <a:ext cx="9143640" cy="15408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5"/>
          <p:cNvSpPr/>
          <p:nvPr/>
        </p:nvSpPr>
        <p:spPr>
          <a:xfrm>
            <a:off x="2393640" y="6541200"/>
            <a:ext cx="4650840" cy="30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www.inforegio.ro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Segoe UI"/>
              </a:rPr>
              <a:t>     </a:t>
            </a: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|     facebook.com/inforegio.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Imagine 7" descr="Idea_images.png"/>
          <p:cNvPicPr/>
          <p:nvPr/>
        </p:nvPicPr>
        <p:blipFill>
          <a:blip r:embed="rId1"/>
          <a:stretch/>
        </p:blipFill>
        <p:spPr>
          <a:xfrm>
            <a:off x="467640" y="764640"/>
            <a:ext cx="1583640" cy="198288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2"/>
          <p:cNvSpPr/>
          <p:nvPr/>
        </p:nvSpPr>
        <p:spPr>
          <a:xfrm>
            <a:off x="603720" y="548640"/>
            <a:ext cx="807732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DITII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PECIFICE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 APLICABILE POR 2014-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Î</a:t>
            </a:r>
            <a:r>
              <a:rPr b="1" lang="x-none" sz="1800" spc="-1" strike="noStrike">
                <a:solidFill>
                  <a:srgbClr val="000000"/>
                </a:solidFill>
                <a:latin typeface="Calibri"/>
              </a:rPr>
              <a:t>NCETAREA CONTRACT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În cazul în care obiectele / bunurile, finanţate sunt folosite în alte scopuri sau sunt înstrăinate sub orice formă, oricând până la finalizarea perioadei de durabilita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Dacă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Beneficiarul  este de drept în întârziere prin simplul fapt al încălcării prevederilor prezentului Contrac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601"/>
              </a:spcBef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ALTE CONDIȚ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30000"/>
              </a:lnSpc>
              <a:buClr>
                <a:srgbClr val="000000"/>
              </a:buClr>
              <a:buFont typeface="Arial"/>
              <a:buChar char="•"/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În cazul rezilierii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la recuperarea finanțării nerambursabile se vor calcula dobânzi de 0,02% pe zi de întârziere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30000"/>
              </a:lnSpc>
              <a:buClr>
                <a:srgbClr val="000000"/>
              </a:buClr>
              <a:buFont typeface="Arial"/>
              <a:buChar char="•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AM dezangajează fondurile rămase neutilizate în urma finalizării implementării contractelor de achiziție public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30000"/>
              </a:lnSpc>
              <a:buClr>
                <a:srgbClr val="000000"/>
              </a:buClr>
              <a:buFont typeface="Arial"/>
              <a:buChar char="•"/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Beneficiarul are obligația publicării pe site-ul propriu a informațiilor  referitoare la  denumirea contractorilor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 - în condițiile art. 57 din Legea nr. 98/2016 privind achizițiile public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Num" idx="38"/>
          </p:nvPr>
        </p:nvSpPr>
        <p:spPr>
          <a:xfrm>
            <a:off x="7092360" y="6473520"/>
            <a:ext cx="503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o-RO" sz="12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FED96C2-B330-4DC5-A71E-A49FC47CA508}" type="slidenum">
              <a:rPr b="0" lang="ro-RO" sz="1200" spc="-1" strike="noStrike">
                <a:solidFill>
                  <a:srgbClr val="8b8b8b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2"/>
          <a:srcRect l="0" t="0" r="661" b="0"/>
          <a:stretch/>
        </p:blipFill>
        <p:spPr>
          <a:xfrm>
            <a:off x="0" y="6341760"/>
            <a:ext cx="9143640" cy="15408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5"/>
          <p:cNvSpPr/>
          <p:nvPr/>
        </p:nvSpPr>
        <p:spPr>
          <a:xfrm>
            <a:off x="2393640" y="6541200"/>
            <a:ext cx="4650840" cy="30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www.inforegio.ro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Segoe UI"/>
              </a:rPr>
              <a:t>     </a:t>
            </a: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|     facebook.com/inforegio.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Imagine 7" descr="Idea_images.png"/>
          <p:cNvPicPr/>
          <p:nvPr/>
        </p:nvPicPr>
        <p:blipFill>
          <a:blip r:embed="rId1"/>
          <a:stretch/>
        </p:blipFill>
        <p:spPr>
          <a:xfrm>
            <a:off x="467640" y="764640"/>
            <a:ext cx="1583640" cy="198288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5"/>
          <p:cNvSpPr/>
          <p:nvPr/>
        </p:nvSpPr>
        <p:spPr>
          <a:xfrm>
            <a:off x="467640" y="404640"/>
            <a:ext cx="8352720" cy="49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DITII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PECIFICE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 APLICABILE POR 2014-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601"/>
              </a:spcBef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ALTE CONDIȚ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Beneficiarul se obligă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, ca 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în termen de 30 de zile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de la finalizarea implementării proiectului, 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să publice pe site-ul propriu rezultatele obținute prin proiect și să notifice A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MPORTANT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lnSpc>
                <a:spcPct val="120000"/>
              </a:lnSpc>
              <a:buClr>
                <a:srgbClr val="000000"/>
              </a:buClr>
              <a:buFont typeface="Trebuchet MS"/>
              <a:buAutoNum type="arabicPeriod"/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ititi cu atentie prevederile d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nexa 1/Sectiunea 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-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Condiții specifice aplicabile Priorității de investiți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nexa 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– Aspecte de monitoriz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lnSpc>
                <a:spcPct val="120000"/>
              </a:lnSpc>
              <a:buClr>
                <a:srgbClr val="000000"/>
              </a:buClr>
              <a:buFont typeface="Trebuchet MS"/>
              <a:buAutoNum type="arabicPeriod"/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ransmiteti in termenele precizate, in aceste anexe, documentele solicitate catre O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Num" idx="39"/>
          </p:nvPr>
        </p:nvSpPr>
        <p:spPr>
          <a:xfrm>
            <a:off x="7020360" y="6473520"/>
            <a:ext cx="575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o-RO" sz="12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DC21DE5-D493-49FF-ABB5-4F25BB1DB9E6}" type="slidenum">
              <a:rPr b="0" lang="ro-RO" sz="1200" spc="-1" strike="noStrike">
                <a:solidFill>
                  <a:srgbClr val="8b8b8b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2"/>
          <a:srcRect l="0" t="0" r="661" b="0"/>
          <a:stretch/>
        </p:blipFill>
        <p:spPr>
          <a:xfrm>
            <a:off x="0" y="6341760"/>
            <a:ext cx="9143640" cy="15408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6"/>
          <p:cNvSpPr/>
          <p:nvPr/>
        </p:nvSpPr>
        <p:spPr>
          <a:xfrm>
            <a:off x="2393640" y="6541200"/>
            <a:ext cx="4650840" cy="30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www.inforegio.ro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Segoe UI"/>
              </a:rPr>
              <a:t>     </a:t>
            </a: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|     facebook.com/inforegio.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"/>
          <p:cNvSpPr/>
          <p:nvPr/>
        </p:nvSpPr>
        <p:spPr>
          <a:xfrm>
            <a:off x="683640" y="548640"/>
            <a:ext cx="82807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x-none" sz="1800" spc="-1" strike="noStrike">
                <a:solidFill>
                  <a:srgbClr val="9d1e23"/>
                </a:solidFill>
                <a:latin typeface="Calibri"/>
              </a:rPr>
              <a:t>CONDIȚII SPECIFICE </a:t>
            </a:r>
            <a:r>
              <a:rPr b="1" lang="ro-RO" sz="1800" spc="-1" strike="noStrike">
                <a:solidFill>
                  <a:srgbClr val="9d1e23"/>
                </a:solidFill>
                <a:latin typeface="Calibri"/>
              </a:rPr>
              <a:t>P.I. </a:t>
            </a:r>
            <a:r>
              <a:rPr b="1" lang="en-US" sz="1800" spc="-1" strike="noStrike">
                <a:solidFill>
                  <a:srgbClr val="9d1e23"/>
                </a:solidFill>
                <a:latin typeface="Calibri"/>
              </a:rPr>
              <a:t>8</a:t>
            </a:r>
            <a:r>
              <a:rPr b="1" lang="x-none" sz="1800" spc="-1" strike="noStrike">
                <a:solidFill>
                  <a:srgbClr val="9d1e23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9d1e23"/>
                </a:solidFill>
                <a:latin typeface="Calibri"/>
              </a:rPr>
              <a:t>1.A</a:t>
            </a:r>
            <a:r>
              <a:rPr b="1" lang="x-none" sz="1800" spc="-1" strike="noStrike">
                <a:solidFill>
                  <a:srgbClr val="9d1e23"/>
                </a:solidFill>
                <a:latin typeface="Calibri"/>
              </a:rPr>
              <a:t>, POR 2014-2020</a:t>
            </a:r>
            <a:r>
              <a:rPr b="1" lang="ro-RO" sz="1800" spc="-1" strike="noStrike">
                <a:solidFill>
                  <a:srgbClr val="9d1e23"/>
                </a:solidFill>
                <a:latin typeface="Calibri"/>
              </a:rPr>
              <a:t>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neficiarul se obligă să utilizeze obiectele/bunurile, mobile sau imobile, finanţate în cadrul contractului,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form scopului declarat în proiect, inclusiv in durabilita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neficiarul are obligația ca pe perioada de durabilitate să asigure întreținerea/mentenanța investiției în conformitate cu prevederile legale în vigoare, - REZILIER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ca beneficiarul nu prezintă extrasul CF actualizat cu inscrierea definitivă a dreptului de proprietate pentru obiectivele proiectului (acolo unde este cazul) într-un termen de maxim 12 luni de la data intrării în vigoare a contractului de finanțare – AM va considera reziliere de drep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iectul este considerat eligibil, în situația în care valoarea acestuia scade sub valoarea minimă de 100.000 euro, ca urmare a atribuirii contractelor de achiziție publică la o valoare mai mică decât cea estimată în cererea de finanț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A627-293F-4177-AEF9-8EBE8F98EAA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Num" idx="40"/>
          </p:nvPr>
        </p:nvSpPr>
        <p:spPr>
          <a:xfrm>
            <a:off x="6687000" y="64821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o-RO" sz="12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284810A-AECD-4081-ADCD-FF5767710647}" type="slidenum">
              <a:rPr b="0" lang="ro-RO" sz="1200" spc="-1" strike="noStrike">
                <a:solidFill>
                  <a:srgbClr val="8b8b8b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2"/>
          <p:cNvSpPr/>
          <p:nvPr/>
        </p:nvSpPr>
        <p:spPr>
          <a:xfrm>
            <a:off x="611640" y="1056240"/>
            <a:ext cx="8208720" cy="47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</a:pPr>
            <a:r>
              <a:rPr b="1" lang="x-none" sz="1800" spc="-1" strike="noStrike">
                <a:solidFill>
                  <a:srgbClr val="9d1e23"/>
                </a:solidFill>
                <a:latin typeface="Calibri"/>
              </a:rPr>
              <a:t>CONDIȚII SPECIFICE </a:t>
            </a:r>
            <a:r>
              <a:rPr b="1" lang="ro-RO" sz="1800" spc="-1" strike="noStrike">
                <a:solidFill>
                  <a:srgbClr val="9d1e23"/>
                </a:solidFill>
                <a:latin typeface="Calibri"/>
              </a:rPr>
              <a:t>P.I. </a:t>
            </a:r>
            <a:r>
              <a:rPr b="1" lang="en-US" sz="1800" spc="-1" strike="noStrike">
                <a:solidFill>
                  <a:srgbClr val="9d1e23"/>
                </a:solidFill>
                <a:latin typeface="Calibri"/>
              </a:rPr>
              <a:t>8</a:t>
            </a:r>
            <a:r>
              <a:rPr b="1" lang="x-none" sz="1800" spc="-1" strike="noStrike">
                <a:solidFill>
                  <a:srgbClr val="9d1e23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9d1e23"/>
                </a:solidFill>
                <a:latin typeface="Calibri"/>
              </a:rPr>
              <a:t>3.A</a:t>
            </a:r>
            <a:r>
              <a:rPr b="1" lang="x-none" sz="1800" spc="-1" strike="noStrike">
                <a:solidFill>
                  <a:srgbClr val="9d1e23"/>
                </a:solidFill>
                <a:latin typeface="Calibri"/>
              </a:rPr>
              <a:t>, POR 2014-2020</a:t>
            </a:r>
            <a:r>
              <a:rPr b="1" lang="ro-RO" sz="1800" spc="-1" strike="noStrike">
                <a:solidFill>
                  <a:srgbClr val="9d1e23"/>
                </a:solidFill>
                <a:latin typeface="Calibri"/>
              </a:rPr>
              <a:t>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buClr>
                <a:srgbClr val="9d1e23"/>
              </a:buClr>
              <a:buFont typeface="Arial"/>
              <a:buChar char="•"/>
            </a:pPr>
            <a:r>
              <a:rPr b="0" lang="vi-VN" sz="1600" spc="-1" strike="noStrike">
                <a:solidFill>
                  <a:srgbClr val="9d1e23"/>
                </a:solidFill>
                <a:latin typeface="Calibri"/>
              </a:rPr>
              <a:t>Beneficiarul se obligă să nu schimbe natura activităţii pentru a cărei infrastructură s-a acordat</a:t>
            </a:r>
            <a:r>
              <a:rPr b="0" lang="en-US" sz="1600" spc="-1" strike="noStrike">
                <a:solidFill>
                  <a:srgbClr val="9d1e23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9d1e23"/>
                </a:solidFill>
                <a:latin typeface="Calibri"/>
              </a:rPr>
              <a:t>finanţare</a:t>
            </a:r>
            <a:r>
              <a:rPr b="0" lang="en-US" sz="1600" spc="-1" strike="noStrike">
                <a:solidFill>
                  <a:srgbClr val="9d1e23"/>
                </a:solidFill>
                <a:latin typeface="Calibri"/>
              </a:rPr>
              <a:t> - </a:t>
            </a:r>
            <a:r>
              <a:rPr b="0" lang="vi-VN" sz="1600" spc="-1" strike="noStrike">
                <a:solidFill>
                  <a:srgbClr val="9d1e23"/>
                </a:solidFill>
                <a:latin typeface="Calibri"/>
              </a:rPr>
              <a:t>serviciilor sociale fără componentă rezidenţială</a:t>
            </a:r>
            <a:r>
              <a:rPr b="0" lang="en-US" sz="1600" spc="-1" strike="noStrike">
                <a:solidFill>
                  <a:srgbClr val="9d1e23"/>
                </a:solidFill>
                <a:latin typeface="Calibri"/>
              </a:rPr>
              <a:t>, </a:t>
            </a:r>
            <a:r>
              <a:rPr b="0" i="1" lang="ro-RO" sz="1600" spc="-1" strike="noStrike">
                <a:solidFill>
                  <a:srgbClr val="9d1e23"/>
                </a:solidFill>
                <a:latin typeface="Calibri"/>
              </a:rPr>
              <a:t>pe perioada de durabilitate a proiectului</a:t>
            </a:r>
            <a:r>
              <a:rPr b="0" lang="en-US" sz="1600" spc="-1" strike="noStrike">
                <a:solidFill>
                  <a:srgbClr val="9d1e23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buClr>
                <a:srgbClr val="9d1e23"/>
              </a:buClr>
              <a:buFont typeface="Arial"/>
              <a:buChar char="•"/>
            </a:pPr>
            <a:r>
              <a:rPr b="0" lang="vi-VN" sz="1600" spc="-1" strike="noStrike">
                <a:solidFill>
                  <a:srgbClr val="9d1e23"/>
                </a:solidFill>
                <a:latin typeface="Calibri"/>
              </a:rPr>
              <a:t>Beneficiarul este obligat să obțină licența provizorie sau licența de funționare pentru fiecare</a:t>
            </a:r>
            <a:r>
              <a:rPr b="0" lang="en-US" sz="1600" spc="-1" strike="noStrike">
                <a:solidFill>
                  <a:srgbClr val="9d1e23"/>
                </a:solidFill>
                <a:latin typeface="Calibri"/>
              </a:rPr>
              <a:t> </a:t>
            </a:r>
            <a:r>
              <a:rPr b="0" lang="vi-VN" sz="1600" spc="-1" strike="noStrike">
                <a:solidFill>
                  <a:srgbClr val="9d1e23"/>
                </a:solidFill>
                <a:latin typeface="Calibri"/>
              </a:rPr>
              <a:t>serviciu social furnizat în cadrul infrastructurii care a făcut obiectul proiectului, </a:t>
            </a:r>
            <a:r>
              <a:rPr b="0" i="1" lang="vi-VN" sz="1600" spc="-1" strike="noStrike">
                <a:solidFill>
                  <a:srgbClr val="9d1e23"/>
                </a:solidFill>
                <a:latin typeface="Calibri"/>
              </a:rPr>
              <a:t>în termen de maxim un an</a:t>
            </a:r>
            <a:r>
              <a:rPr b="0" i="1" lang="en-US" sz="1600" spc="-1" strike="noStrike">
                <a:solidFill>
                  <a:srgbClr val="9d1e23"/>
                </a:solidFill>
                <a:latin typeface="Calibri"/>
              </a:rPr>
              <a:t> </a:t>
            </a:r>
            <a:r>
              <a:rPr b="0" i="1" lang="vi-VN" sz="1600" spc="-1" strike="noStrike">
                <a:solidFill>
                  <a:srgbClr val="9d1e23"/>
                </a:solidFill>
                <a:latin typeface="Calibri"/>
              </a:rPr>
              <a:t>de la data efectuării plății finale</a:t>
            </a:r>
            <a:r>
              <a:rPr b="0" i="1" lang="en-US" sz="1600" spc="-1" strike="noStrike">
                <a:solidFill>
                  <a:srgbClr val="9d1e23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buClr>
                <a:srgbClr val="9d1e23"/>
              </a:buClr>
              <a:buFont typeface="Arial"/>
              <a:buChar char="•"/>
            </a:pPr>
            <a:r>
              <a:rPr b="0" lang="vi-VN" sz="1600" spc="-1" strike="noStrike">
                <a:solidFill>
                  <a:srgbClr val="9d1e23"/>
                </a:solidFill>
                <a:latin typeface="Calibri"/>
              </a:rPr>
              <a:t>Beneficiarul are obligaţia de a raporta OI/AM POR numărul de beneficiari vârstnici ai infrastructurii</a:t>
            </a:r>
            <a:r>
              <a:rPr b="0" lang="en-US" sz="1600" spc="-1" strike="noStrike">
                <a:solidFill>
                  <a:srgbClr val="9d1e23"/>
                </a:solidFill>
                <a:latin typeface="Calibri"/>
              </a:rPr>
              <a:t> </a:t>
            </a:r>
            <a:r>
              <a:rPr b="0" lang="vi-VN" sz="1600" spc="-1" strike="noStrike">
                <a:solidFill>
                  <a:srgbClr val="9d1e23"/>
                </a:solidFill>
                <a:latin typeface="Calibri"/>
              </a:rPr>
              <a:t>sociale, anual pe întreaga perioadă de valabilitate a contractului de finanţare începând cu data împlinirii</a:t>
            </a:r>
            <a:r>
              <a:rPr b="0" lang="en-US" sz="1600" spc="-1" strike="noStrike">
                <a:solidFill>
                  <a:srgbClr val="9d1e23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9d1e23"/>
                </a:solidFill>
                <a:latin typeface="Calibri"/>
              </a:rPr>
              <a:t>unui an de la data platii finale</a:t>
            </a:r>
            <a:r>
              <a:rPr b="0" lang="en-US" sz="1600" spc="-1" strike="noStrike">
                <a:solidFill>
                  <a:srgbClr val="9d1e23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buClr>
                <a:srgbClr val="9d1e23"/>
              </a:buClr>
              <a:buFont typeface="Arial"/>
              <a:buChar char="•"/>
            </a:pPr>
            <a:r>
              <a:rPr b="0" lang="vi-VN" sz="1600" spc="-1" strike="noStrike">
                <a:solidFill>
                  <a:srgbClr val="9d1e23"/>
                </a:solidFill>
                <a:latin typeface="Calibri"/>
              </a:rPr>
              <a:t>În ultima lună din perioada de valabilitate a contractului Beneficiarul va</a:t>
            </a:r>
            <a:r>
              <a:rPr b="0" lang="en-US" sz="1600" spc="-1" strike="noStrike">
                <a:solidFill>
                  <a:srgbClr val="9d1e23"/>
                </a:solidFill>
                <a:latin typeface="Calibri"/>
              </a:rPr>
              <a:t> </a:t>
            </a:r>
            <a:r>
              <a:rPr b="0" lang="vi-VN" sz="1600" spc="-1" strike="noStrike">
                <a:solidFill>
                  <a:srgbClr val="9d1e23"/>
                </a:solidFill>
                <a:latin typeface="Calibri"/>
              </a:rPr>
              <a:t>întocmi și </a:t>
            </a:r>
            <a:r>
              <a:rPr b="0" lang="en-US" sz="1600" spc="-1" strike="noStrike">
                <a:solidFill>
                  <a:srgbClr val="9d1e23"/>
                </a:solidFill>
                <a:latin typeface="Calibri"/>
              </a:rPr>
              <a:t>d</a:t>
            </a:r>
            <a:r>
              <a:rPr b="0" lang="vi-VN" sz="1600" spc="-1" strike="noStrike">
                <a:solidFill>
                  <a:srgbClr val="9d1e23"/>
                </a:solidFill>
                <a:latin typeface="Calibri"/>
              </a:rPr>
              <a:t>epune la OI/AM, un raport final care va cuprinde numărul total de beneficiari cumulat pentru</a:t>
            </a:r>
            <a:r>
              <a:rPr b="0" lang="en-US" sz="1600" spc="-1" strike="noStrike">
                <a:solidFill>
                  <a:srgbClr val="9d1e23"/>
                </a:solidFill>
                <a:latin typeface="Calibri"/>
              </a:rPr>
              <a:t> </a:t>
            </a:r>
            <a:r>
              <a:rPr b="0" lang="vi-VN" sz="1600" spc="-1" strike="noStrike">
                <a:solidFill>
                  <a:srgbClr val="9d1e23"/>
                </a:solidFill>
                <a:latin typeface="Calibri"/>
              </a:rPr>
              <a:t>întreaga perioadă</a:t>
            </a:r>
            <a:r>
              <a:rPr b="0" lang="en-US" sz="1600" spc="-1" strike="noStrike">
                <a:solidFill>
                  <a:srgbClr val="9d1e23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buClr>
                <a:srgbClr val="9d1e23"/>
              </a:buClr>
              <a:buFont typeface="Arial"/>
              <a:buChar char="•"/>
            </a:pPr>
            <a:r>
              <a:rPr b="0" lang="vi-VN" sz="1600" spc="-1" strike="noStrike">
                <a:solidFill>
                  <a:srgbClr val="9d1e23"/>
                </a:solidFill>
                <a:latin typeface="Calibri"/>
              </a:rPr>
              <a:t>Entitatea publică cu rol de beneficiar sau lider de parteneriat, are obligația ca în termen de un an</a:t>
            </a:r>
            <a:r>
              <a:rPr b="0" lang="en-US" sz="1600" spc="-1" strike="noStrike">
                <a:solidFill>
                  <a:srgbClr val="9d1e23"/>
                </a:solidFill>
                <a:latin typeface="Calibri"/>
              </a:rPr>
              <a:t> </a:t>
            </a:r>
            <a:r>
              <a:rPr b="0" lang="vi-VN" sz="1600" spc="-1" strike="noStrike">
                <a:solidFill>
                  <a:srgbClr val="9d1e23"/>
                </a:solidFill>
                <a:latin typeface="Calibri"/>
              </a:rPr>
              <a:t>după efectuarea plății finale să înscrie clădirea care a făcut obiectul</a:t>
            </a:r>
            <a:r>
              <a:rPr b="0" lang="en-US" sz="1600" spc="-1" strike="noStrike">
                <a:solidFill>
                  <a:srgbClr val="9d1e23"/>
                </a:solidFill>
                <a:latin typeface="Calibri"/>
              </a:rPr>
              <a:t> </a:t>
            </a:r>
            <a:r>
              <a:rPr b="0" lang="vi-VN" sz="1600" spc="-1" strike="noStrike">
                <a:solidFill>
                  <a:srgbClr val="9d1e23"/>
                </a:solidFill>
                <a:latin typeface="Calibri"/>
              </a:rPr>
              <a:t>reabilitării/modernizării/extinderii/dotării și terenul aferent, în domeniul public al unității administrativ</a:t>
            </a:r>
            <a:r>
              <a:rPr b="0" lang="en-US" sz="1600" spc="-1" strike="noStrike">
                <a:solidFill>
                  <a:srgbClr val="9d1e23"/>
                </a:solidFill>
                <a:latin typeface="Calibri"/>
              </a:rPr>
              <a:t> </a:t>
            </a:r>
            <a:r>
              <a:rPr b="0" lang="it-IT" sz="1600" spc="-1" strike="noStrike">
                <a:solidFill>
                  <a:srgbClr val="9d1e23"/>
                </a:solidFill>
                <a:latin typeface="Calibri"/>
              </a:rPr>
              <a:t>teritoriale, în categoria clădirilor cu funcțiune social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rcRect l="0" t="0" r="661" b="0"/>
          <a:stretch/>
        </p:blipFill>
        <p:spPr>
          <a:xfrm>
            <a:off x="0" y="6341760"/>
            <a:ext cx="9143640" cy="1540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5"/>
          <p:cNvSpPr/>
          <p:nvPr/>
        </p:nvSpPr>
        <p:spPr>
          <a:xfrm>
            <a:off x="2393640" y="6541200"/>
            <a:ext cx="4650840" cy="30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www.inforegio.ro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Segoe UI"/>
              </a:rPr>
              <a:t>     </a:t>
            </a: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|     facebook.com/inforegio.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1640" y="1340640"/>
            <a:ext cx="8229240" cy="44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</a:pPr>
            <a:r>
              <a:rPr b="1" lang="en-US" sz="1800" spc="-1" strike="noStrike">
                <a:solidFill>
                  <a:srgbClr val="9d1e23"/>
                </a:solidFill>
                <a:latin typeface="Calibri"/>
              </a:rPr>
              <a:t>CADRUL JURIDIC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9d1e23"/>
                </a:solidFill>
                <a:latin typeface="Calibri"/>
              </a:rPr>
              <a:t>─ </a:t>
            </a:r>
            <a:r>
              <a:rPr b="0" i="1" lang="ro-RO" sz="1800" spc="-1" strike="noStrike">
                <a:solidFill>
                  <a:srgbClr val="000000"/>
                </a:solidFill>
                <a:latin typeface="Calibri"/>
              </a:rPr>
              <a:t>O.U.G. nr.40/2015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gestionarea financiară a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E -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programare 2014-2020, cu modificările şi completările ulterioar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1800" spc="-1" strike="noStrike">
                <a:solidFill>
                  <a:srgbClr val="ff0000"/>
                </a:solidFill>
                <a:latin typeface="Calibri"/>
              </a:rPr>
              <a:t>cu modificările şi completările ulterioare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prin OUG 39/2022</a:t>
            </a:r>
            <a:r>
              <a:rPr b="0" lang="ro-RO" sz="1800" spc="-1" strike="noStrike">
                <a:solidFill>
                  <a:srgbClr val="ff0000"/>
                </a:solidFill>
                <a:latin typeface="Calibri"/>
              </a:rPr>
              <a:t>;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i="1" lang="ro-RO" sz="1800" spc="-1" strike="noStrike">
                <a:solidFill>
                  <a:srgbClr val="000000"/>
                </a:solidFill>
                <a:latin typeface="Calibri"/>
              </a:rPr>
              <a:t>H.G. nr.93/2016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pentru aprobarea Normelor de aplicare a O.U.G. nr.40/2015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o-RO" sz="1800" spc="-1" strike="noStrike">
                <a:solidFill>
                  <a:srgbClr val="000000"/>
                </a:solidFill>
                <a:latin typeface="Calibri"/>
              </a:rPr>
              <a:t>H.G. nr. 399/2015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privind regulile de eligibilitate a cheltuielilo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Legea 98 din 19 mai 2016 – privind achizițiile publi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Hotărârea 395 din 02 iunie 2016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Norme de aplicare lg. 98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Legea nr. 101/2016 privind remediile şi căile de atac în materie de atribuire a contractelor de achiziţie public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1" lang="ro-RO" sz="1800" spc="-1" strike="noStrike">
                <a:solidFill>
                  <a:srgbClr val="ffffff"/>
                </a:solidFill>
                <a:latin typeface="Calibri"/>
              </a:rPr>
              <a:t>ea 98</a:t>
            </a:r>
            <a:r>
              <a:rPr b="0" lang="ro-RO" sz="1800" spc="-1" strike="noStrike">
                <a:solidFill>
                  <a:srgbClr val="ffffff"/>
                </a:solidFill>
                <a:latin typeface="Calibri"/>
              </a:rPr>
              <a:t> din 19 mai </a:t>
            </a:r>
            <a:r>
              <a:rPr b="1" lang="ro-RO" sz="1800" spc="-1" strike="noStrike">
                <a:solidFill>
                  <a:srgbClr val="ffffff"/>
                </a:solidFill>
                <a:latin typeface="Calibri"/>
              </a:rPr>
              <a:t>2016</a:t>
            </a:r>
            <a:r>
              <a:rPr b="0" lang="ro-RO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o-RO" sz="1800" spc="-1" strike="noStrike">
                <a:solidFill>
                  <a:srgbClr val="ffffff"/>
                </a:solidFill>
                <a:latin typeface="Calibri"/>
              </a:rPr>
              <a:t>privind chizițiilblice</a:t>
            </a:r>
            <a:br>
              <a:rPr sz="1600"/>
            </a:br>
            <a:r>
              <a:rPr b="0" lang="en-US" sz="1600" spc="-1" strike="noStrike">
                <a:solidFill>
                  <a:srgbClr val="9d1e23"/>
                </a:solidFill>
                <a:latin typeface="Calibri"/>
              </a:rPr>
              <a:t>─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ORDONANŢĂ DE URGENŢĂ nr. 77 din 3 decembrie 2014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j. de STAT si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modificarea şi completarea Legii concurenţei nr. </a:t>
            </a:r>
            <a:r>
              <a:rPr b="0" lang="ro-RO" sz="1600" spc="-1" strike="noStrike" u="sng">
                <a:solidFill>
                  <a:srgbClr val="cc9900"/>
                </a:solidFill>
                <a:uFillTx/>
                <a:latin typeface="Calibri"/>
                <a:hlinkClick r:id="rId1"/>
              </a:rPr>
              <a:t>21/1996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Legea nr. 50/1991 privind autorizarea executării lucrărilor de construcții – actualizat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ă</a:t>
            </a:r>
            <a:br>
              <a:rPr sz="1600"/>
            </a:b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- Legea nr. 10/1995 privind calitatea în construcții</a:t>
            </a:r>
            <a:br>
              <a:rPr sz="1600"/>
            </a:br>
            <a:br>
              <a:rPr sz="2800"/>
            </a:br>
            <a:endParaRPr b="0" lang="ro-RO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ldNum" idx="15"/>
          </p:nvPr>
        </p:nvSpPr>
        <p:spPr>
          <a:xfrm>
            <a:off x="6732360" y="6481440"/>
            <a:ext cx="503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o-RO" sz="12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62F31C-3A7A-4536-82AA-07660D12A0A1}" type="slidenum">
              <a:rPr b="0" lang="ro-RO" sz="1200" spc="-1" strike="noStrike">
                <a:solidFill>
                  <a:srgbClr val="8b8b8b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2"/>
          <a:srcRect l="0" t="0" r="661" b="0"/>
          <a:stretch/>
        </p:blipFill>
        <p:spPr>
          <a:xfrm>
            <a:off x="0" y="6341760"/>
            <a:ext cx="9143640" cy="15408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4"/>
          <p:cNvSpPr/>
          <p:nvPr/>
        </p:nvSpPr>
        <p:spPr>
          <a:xfrm>
            <a:off x="2393640" y="6541200"/>
            <a:ext cx="4650840" cy="30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www.inforegio.ro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Segoe UI"/>
              </a:rPr>
              <a:t>     </a:t>
            </a: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|     facebook.com/inforegio.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Num" idx="41"/>
          </p:nvPr>
        </p:nvSpPr>
        <p:spPr>
          <a:xfrm>
            <a:off x="6687000" y="64188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o-RO" sz="12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07CF133-227A-4B41-8CD6-5DDBD04BFC25}" type="slidenum">
              <a:rPr b="0" lang="ro-RO" sz="1200" spc="-1" strike="noStrike">
                <a:solidFill>
                  <a:srgbClr val="8b8b8b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2"/>
          <p:cNvSpPr/>
          <p:nvPr/>
        </p:nvSpPr>
        <p:spPr>
          <a:xfrm>
            <a:off x="611640" y="1056240"/>
            <a:ext cx="820872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</a:pPr>
            <a:r>
              <a:rPr b="1" lang="x-none" sz="1800" spc="-1" strike="noStrike">
                <a:solidFill>
                  <a:srgbClr val="9d1e23"/>
                </a:solidFill>
                <a:latin typeface="Calibri"/>
              </a:rPr>
              <a:t>CONDIȚII SPECIFICE </a:t>
            </a:r>
            <a:r>
              <a:rPr b="1" lang="ro-RO" sz="1800" spc="-1" strike="noStrike">
                <a:solidFill>
                  <a:srgbClr val="9d1e23"/>
                </a:solidFill>
                <a:latin typeface="Calibri"/>
              </a:rPr>
              <a:t>P.I. </a:t>
            </a:r>
            <a:r>
              <a:rPr b="1" lang="en-US" sz="1800" spc="-1" strike="noStrike">
                <a:solidFill>
                  <a:srgbClr val="9d1e23"/>
                </a:solidFill>
                <a:latin typeface="Calibri"/>
              </a:rPr>
              <a:t>8</a:t>
            </a:r>
            <a:r>
              <a:rPr b="1" lang="x-none" sz="1800" spc="-1" strike="noStrike">
                <a:solidFill>
                  <a:srgbClr val="9d1e23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9d1e23"/>
                </a:solidFill>
                <a:latin typeface="Calibri"/>
              </a:rPr>
              <a:t>3.A</a:t>
            </a:r>
            <a:r>
              <a:rPr b="1" lang="x-none" sz="1800" spc="-1" strike="noStrike">
                <a:solidFill>
                  <a:srgbClr val="9d1e23"/>
                </a:solidFill>
                <a:latin typeface="Calibri"/>
              </a:rPr>
              <a:t>, POR 2014-2020</a:t>
            </a:r>
            <a:r>
              <a:rPr b="1" lang="ro-RO" sz="1800" spc="-1" strike="noStrike">
                <a:solidFill>
                  <a:srgbClr val="9d1e23"/>
                </a:solidFill>
                <a:latin typeface="Calibri"/>
              </a:rPr>
              <a:t>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buClr>
                <a:srgbClr val="9d1e23"/>
              </a:buClr>
              <a:buFont typeface="Arial"/>
              <a:buChar char="•"/>
            </a:pPr>
            <a:r>
              <a:rPr b="0" lang="ro-RO" sz="1600" spc="-1" strike="noStrike">
                <a:solidFill>
                  <a:srgbClr val="9d1e23"/>
                </a:solidFill>
                <a:latin typeface="Calibri"/>
              </a:rPr>
              <a:t>Proiectul este considerat eligibil,</a:t>
            </a:r>
            <a:r>
              <a:rPr b="0" lang="en-US" sz="1600" spc="-1" strike="noStrike">
                <a:solidFill>
                  <a:srgbClr val="9d1e23"/>
                </a:solidFill>
                <a:latin typeface="Calibri"/>
              </a:rPr>
              <a:t> </a:t>
            </a:r>
            <a:r>
              <a:rPr b="0" lang="vi-VN" sz="1600" spc="-1" strike="noStrike">
                <a:solidFill>
                  <a:srgbClr val="9d1e23"/>
                </a:solidFill>
                <a:latin typeface="Calibri"/>
              </a:rPr>
              <a:t>în situația în care valoarea acestuia scade sub valoarea minimă</a:t>
            </a:r>
            <a:r>
              <a:rPr b="0" lang="en-US" sz="1600" spc="-1" strike="noStrike">
                <a:solidFill>
                  <a:srgbClr val="9d1e23"/>
                </a:solidFill>
                <a:latin typeface="Calibri"/>
              </a:rPr>
              <a:t> </a:t>
            </a:r>
            <a:r>
              <a:rPr b="0" lang="pt-BR" sz="1600" spc="-1" strike="noStrike">
                <a:solidFill>
                  <a:srgbClr val="9d1e23"/>
                </a:solidFill>
                <a:latin typeface="Calibri"/>
              </a:rPr>
              <a:t>de 50.000 euro, respectiv 100 000 euro, ca urmare a atribuirii contractelor de achiziție public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buClr>
                <a:srgbClr val="9d1e23"/>
              </a:buClr>
              <a:buFont typeface="Arial"/>
              <a:buChar char="•"/>
            </a:pPr>
            <a:r>
              <a:rPr b="0" lang="ro-RO" sz="1600" spc="-1" strike="noStrike">
                <a:solidFill>
                  <a:srgbClr val="9d1e23"/>
                </a:solidFill>
                <a:latin typeface="Calibri"/>
              </a:rPr>
              <a:t>În situația în care, prin</a:t>
            </a:r>
            <a:r>
              <a:rPr b="0" lang="en-US" sz="1600" spc="-1" strike="noStrike">
                <a:solidFill>
                  <a:srgbClr val="9d1e23"/>
                </a:solidFill>
                <a:latin typeface="Calibri"/>
              </a:rPr>
              <a:t> </a:t>
            </a:r>
            <a:r>
              <a:rPr b="0" lang="vi-VN" sz="1600" spc="-1" strike="noStrike">
                <a:solidFill>
                  <a:srgbClr val="9d1e23"/>
                </a:solidFill>
                <a:latin typeface="Calibri"/>
              </a:rPr>
              <a:t>cererea de finanțare, beneficiarul și-a asumat obligația angajării unei/unor persoane vârstnice sau cu</a:t>
            </a:r>
            <a:r>
              <a:rPr b="0" lang="en-US" sz="1600" spc="-1" strike="noStrike">
                <a:solidFill>
                  <a:srgbClr val="9d1e23"/>
                </a:solidFill>
                <a:latin typeface="Calibri"/>
              </a:rPr>
              <a:t> </a:t>
            </a:r>
            <a:r>
              <a:rPr b="0" lang="vi-VN" sz="1600" spc="-1" strike="noStrike">
                <a:solidFill>
                  <a:srgbClr val="9d1e23"/>
                </a:solidFill>
                <a:latin typeface="Calibri"/>
              </a:rPr>
              <a:t>dizabilități, termenul limită de îndeplinire a acestei obligații este </a:t>
            </a:r>
            <a:r>
              <a:rPr b="0" lang="ro-RO" sz="1600" spc="-1" strike="noStrike">
                <a:solidFill>
                  <a:srgbClr val="9d1e23"/>
                </a:solidFill>
                <a:latin typeface="Calibri"/>
              </a:rPr>
              <a:t>maxim un an</a:t>
            </a:r>
            <a:r>
              <a:rPr b="0" lang="en-US" sz="1600" spc="-1" strike="noStrike">
                <a:solidFill>
                  <a:srgbClr val="9d1e23"/>
                </a:solidFill>
                <a:latin typeface="Calibri"/>
              </a:rPr>
              <a:t> </a:t>
            </a:r>
            <a:r>
              <a:rPr b="0" lang="vi-VN" sz="1600" spc="-1" strike="noStrike">
                <a:solidFill>
                  <a:srgbClr val="9d1e23"/>
                </a:solidFill>
                <a:latin typeface="Calibri"/>
              </a:rPr>
              <a:t>de la data efectuării plății finale</a:t>
            </a:r>
            <a:r>
              <a:rPr b="0" lang="en-US" sz="1600" spc="-1" strike="noStrike">
                <a:solidFill>
                  <a:srgbClr val="9d1e23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buClr>
                <a:srgbClr val="9d1e23"/>
              </a:buClr>
              <a:buFont typeface="Arial"/>
              <a:buChar char="•"/>
            </a:pPr>
            <a:r>
              <a:rPr b="0" lang="vi-VN" sz="1600" spc="-1" strike="noStrike">
                <a:solidFill>
                  <a:srgbClr val="9d1e23"/>
                </a:solidFill>
                <a:latin typeface="Calibri"/>
              </a:rPr>
              <a:t>Același termen se aplică, dacă este cazul, și pentru demonstrarea îndeplinirii obligației de implicare</a:t>
            </a:r>
            <a:r>
              <a:rPr b="0" lang="en-US" sz="1600" spc="-1" strike="noStrike">
                <a:solidFill>
                  <a:srgbClr val="9d1e23"/>
                </a:solidFill>
                <a:latin typeface="Calibri"/>
              </a:rPr>
              <a:t> </a:t>
            </a:r>
            <a:r>
              <a:rPr b="0" lang="vi-VN" sz="1600" spc="-1" strike="noStrike">
                <a:solidFill>
                  <a:srgbClr val="9d1e23"/>
                </a:solidFill>
                <a:latin typeface="Calibri"/>
              </a:rPr>
              <a:t>(colaborare/voluntariat) a unei/unor persoane vârstnice sau cu dizabilități</a:t>
            </a:r>
            <a:r>
              <a:rPr b="0" lang="en-US" sz="1600" spc="-1" strike="noStrike">
                <a:solidFill>
                  <a:srgbClr val="9d1e23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9d1e23"/>
              </a:buClr>
              <a:buFont typeface="Arial"/>
              <a:buChar char="•"/>
            </a:pPr>
            <a:r>
              <a:rPr b="0" lang="ro-RO" sz="1600" spc="-1" strike="noStrike">
                <a:solidFill>
                  <a:srgbClr val="9d1e23"/>
                </a:solidFill>
                <a:latin typeface="Calibri"/>
              </a:rPr>
              <a:t>Beneficiarul/partenerul are obligația de a-și menține calitatea de furnizor acreditat de servicii</a:t>
            </a:r>
            <a:r>
              <a:rPr b="0" lang="en-US" sz="1600" spc="-1" strike="noStrike">
                <a:solidFill>
                  <a:srgbClr val="9d1e23"/>
                </a:solidFill>
                <a:latin typeface="Calibri"/>
              </a:rPr>
              <a:t> </a:t>
            </a:r>
            <a:r>
              <a:rPr b="0" lang="vi-VN" sz="1600" spc="-1" strike="noStrike">
                <a:solidFill>
                  <a:srgbClr val="9d1e23"/>
                </a:solidFill>
                <a:latin typeface="Calibri"/>
              </a:rPr>
              <a:t>sociale, pe întreaga perioadă de durabilitate a contractului</a:t>
            </a:r>
            <a:r>
              <a:rPr b="0" lang="en-US" sz="1600" spc="-1" strike="noStrike">
                <a:solidFill>
                  <a:srgbClr val="9d1e23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9d1e23"/>
              </a:buClr>
              <a:buFont typeface="Arial"/>
              <a:buChar char="•"/>
            </a:pPr>
            <a:r>
              <a:rPr b="0" lang="vi-VN" sz="1600" spc="-1" strike="noStrike">
                <a:solidFill>
                  <a:srgbClr val="9d1e23"/>
                </a:solidFill>
                <a:latin typeface="Calibri"/>
              </a:rPr>
              <a:t>Pierderea acreditării ca furnizor de servicii</a:t>
            </a:r>
            <a:r>
              <a:rPr b="0" lang="en-US" sz="1600" spc="-1" strike="noStrike">
                <a:solidFill>
                  <a:srgbClr val="9d1e23"/>
                </a:solidFill>
                <a:latin typeface="Calibri"/>
              </a:rPr>
              <a:t> </a:t>
            </a:r>
            <a:r>
              <a:rPr b="0" lang="it-IT" sz="1600" spc="-1" strike="noStrike">
                <a:solidFill>
                  <a:srgbClr val="9d1e23"/>
                </a:solidFill>
                <a:latin typeface="Calibri"/>
              </a:rPr>
              <a:t>sociale conduce la rezilierea contractului de finanțare și la recuperarea sumelor acor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1"/>
          <a:srcRect l="0" t="0" r="661" b="0"/>
          <a:stretch/>
        </p:blipFill>
        <p:spPr>
          <a:xfrm>
            <a:off x="0" y="6341760"/>
            <a:ext cx="9143640" cy="15408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5"/>
          <p:cNvSpPr/>
          <p:nvPr/>
        </p:nvSpPr>
        <p:spPr>
          <a:xfrm>
            <a:off x="2393640" y="6541200"/>
            <a:ext cx="4650840" cy="30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www.inforegio.ro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Segoe UI"/>
              </a:rPr>
              <a:t>     </a:t>
            </a: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|     facebook.com/inforegio.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Num" idx="42"/>
          </p:nvPr>
        </p:nvSpPr>
        <p:spPr>
          <a:xfrm>
            <a:off x="6657840" y="64188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o-RO" sz="12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2ED1969-49C9-4486-B88D-2C41CC40BAFD}" type="slidenum">
              <a:rPr b="0" lang="ro-RO" sz="1200" spc="-1" strike="noStrike">
                <a:solidFill>
                  <a:srgbClr val="8b8b8b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2"/>
          <p:cNvSpPr/>
          <p:nvPr/>
        </p:nvSpPr>
        <p:spPr>
          <a:xfrm>
            <a:off x="582480" y="692640"/>
            <a:ext cx="8208720" cy="53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</a:pPr>
            <a:r>
              <a:rPr b="1" lang="x-none" sz="1800" spc="-1" strike="noStrike">
                <a:solidFill>
                  <a:srgbClr val="0070c0"/>
                </a:solidFill>
                <a:latin typeface="Calibri"/>
              </a:rPr>
              <a:t>CONDIȚII SPECIFICE </a:t>
            </a:r>
            <a:r>
              <a:rPr b="1" lang="ro-RO" sz="1800" spc="-1" strike="noStrike">
                <a:solidFill>
                  <a:srgbClr val="0070c0"/>
                </a:solidFill>
                <a:latin typeface="Calibri"/>
              </a:rPr>
              <a:t>P.I. 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10</a:t>
            </a:r>
            <a:r>
              <a:rPr b="1" lang="x-none" sz="1800" spc="-1" strike="noStrike">
                <a:solidFill>
                  <a:srgbClr val="0070c0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1/10.3 - </a:t>
            </a:r>
            <a:r>
              <a:rPr b="1" lang="x-none" sz="1800" spc="-1" strike="noStrike">
                <a:solidFill>
                  <a:srgbClr val="0070c0"/>
                </a:solidFill>
                <a:latin typeface="Calibri"/>
              </a:rPr>
              <a:t> POR 2014-2020</a:t>
            </a:r>
            <a:r>
              <a:rPr b="1" lang="ro-RO" sz="1800" spc="-1" strike="noStrike">
                <a:solidFill>
                  <a:srgbClr val="0070c0"/>
                </a:solidFill>
                <a:latin typeface="Calibri"/>
              </a:rPr>
              <a:t>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Beneficiarul are obligația c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pe perioada de durabilitat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să asigure întreținerea/mentenanța investiției în conformitate cu prevederile legale în vigoare, în caz contrar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=&gt;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AM putând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dispune reziliere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vi-VN" sz="1600" spc="-1" strike="noStrike">
                <a:solidFill>
                  <a:srgbClr val="000000"/>
                </a:solidFill>
                <a:latin typeface="Calibri"/>
              </a:rPr>
              <a:t>în termen de 10 de zile de la intrarea în vigoare a contractului de finanțare să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1600" spc="-1" strike="noStrike">
                <a:solidFill>
                  <a:srgbClr val="000000"/>
                </a:solidFill>
                <a:latin typeface="Calibri"/>
              </a:rPr>
              <a:t>depună la sediul OI/în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1600" spc="-1" strike="noStrike">
                <a:solidFill>
                  <a:srgbClr val="000000"/>
                </a:solidFill>
                <a:latin typeface="Calibri"/>
              </a:rPr>
              <a:t>MySMIS documentațiile de achiziție ale contractului de lucrări, pentru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1600" spc="-1" strike="noStrike">
                <a:solidFill>
                  <a:srgbClr val="000000"/>
                </a:solidFill>
                <a:latin typeface="Calibri"/>
              </a:rPr>
              <a:t>proiectele a căror lucrări au fost începute,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dar nefinaliza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a </a:t>
            </a:r>
            <a:r>
              <a:rPr b="0" lang="vi-VN" sz="1600" spc="-1" strike="noStrike">
                <a:solidFill>
                  <a:srgbClr val="000000"/>
                </a:solidFill>
                <a:latin typeface="Calibri"/>
              </a:rPr>
              <a:t>prezint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vi-VN" sz="1600" spc="-1" strike="noStrike">
                <a:solidFill>
                  <a:srgbClr val="000000"/>
                </a:solidFill>
                <a:latin typeface="Calibri"/>
              </a:rPr>
              <a:t> extrasul de carte funciară actualizat cu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1600" spc="-1" strike="noStrike">
                <a:solidFill>
                  <a:srgbClr val="000000"/>
                </a:solidFill>
                <a:latin typeface="Calibri"/>
              </a:rPr>
              <a:t>inscrierea definitivă a dreptului de proprietate publică pentru obiectivele proiectului (acolo unde este cazul) cel ma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1600" spc="-1" strike="noStrike">
                <a:solidFill>
                  <a:srgbClr val="000000"/>
                </a:solidFill>
                <a:latin typeface="Calibri"/>
              </a:rPr>
              <a:t>târziu până la data emiterii autorizaţiei de construir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dar nu mai tarziu </a:t>
            </a:r>
            <a:r>
              <a:rPr b="0" lang="vi-VN" sz="1600" spc="-1" strike="noStrike">
                <a:solidFill>
                  <a:srgbClr val="000000"/>
                </a:solidFill>
                <a:latin typeface="Calibri"/>
              </a:rPr>
              <a:t>de maxim 12 luni de la data intrării în vigoare a contractului de finanțar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in caz contrar =&gt;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AM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considera contractul reziliat, fara orice formalita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n situaţia în care solicitantul nu reuşeste, în timpul perioadei de valabilitate a contractului d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1600" spc="-1" strike="noStrike">
                <a:solidFill>
                  <a:srgbClr val="000000"/>
                </a:solidFill>
                <a:latin typeface="Calibri"/>
              </a:rPr>
              <a:t>finanţare, să îşi menţină acreditarea/autorizarea ca instituţie de învăţământ superior,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1600" spc="-1" strike="noStrike">
                <a:solidFill>
                  <a:srgbClr val="000000"/>
                </a:solidFill>
                <a:latin typeface="Calibri"/>
              </a:rPr>
              <a:t>în caz contrar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=&gt;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AM p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ate sa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rezili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ze contractu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Pentru activitatea de promovar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- se introduce un nou aliniat in Anexa 8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- Măsuri de informare și publicitate - </a:t>
            </a:r>
            <a:r>
              <a:rPr b="0" lang="vi-VN" sz="1600" spc="-1" strike="noStrike">
                <a:solidFill>
                  <a:srgbClr val="000000"/>
                </a:solidFill>
                <a:latin typeface="Calibri"/>
              </a:rPr>
              <a:t>beneficiarul poate realiza următoarele materiale de informare şi comunicar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afișe, bannere, spoturi audio și vide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4" descr=""/>
          <p:cNvPicPr/>
          <p:nvPr/>
        </p:nvPicPr>
        <p:blipFill>
          <a:blip r:embed="rId1"/>
          <a:srcRect l="0" t="0" r="661" b="0"/>
          <a:stretch/>
        </p:blipFill>
        <p:spPr>
          <a:xfrm>
            <a:off x="0" y="6341760"/>
            <a:ext cx="9143640" cy="15408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5"/>
          <p:cNvSpPr/>
          <p:nvPr/>
        </p:nvSpPr>
        <p:spPr>
          <a:xfrm>
            <a:off x="2393640" y="6541200"/>
            <a:ext cx="4650840" cy="30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www.inforegio.ro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Segoe UI"/>
              </a:rPr>
              <a:t>     </a:t>
            </a: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|     facebook.com/inforegio.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4"/>
          <p:cNvSpPr/>
          <p:nvPr/>
        </p:nvSpPr>
        <p:spPr>
          <a:xfrm>
            <a:off x="323640" y="260640"/>
            <a:ext cx="8424720" cy="55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</a:pPr>
            <a:r>
              <a:rPr b="1" lang="x-none" sz="1800" spc="-1" strike="noStrike">
                <a:solidFill>
                  <a:srgbClr val="0070c0"/>
                </a:solidFill>
                <a:latin typeface="Calibri"/>
              </a:rPr>
              <a:t>CONDIȚII SPECIFICE </a:t>
            </a:r>
            <a:r>
              <a:rPr b="1" lang="ro-RO" sz="1800" spc="-1" strike="noStrike">
                <a:solidFill>
                  <a:srgbClr val="0070c0"/>
                </a:solidFill>
                <a:latin typeface="Calibri"/>
              </a:rPr>
              <a:t>P.I. 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9</a:t>
            </a:r>
            <a:r>
              <a:rPr b="1" lang="x-none" sz="1800" spc="-1" strike="noStrike">
                <a:solidFill>
                  <a:srgbClr val="0070c0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1 - </a:t>
            </a:r>
            <a:r>
              <a:rPr b="1" lang="x-none" sz="1800" spc="-1" strike="noStrike">
                <a:solidFill>
                  <a:srgbClr val="0070c0"/>
                </a:solidFill>
                <a:latin typeface="Calibri"/>
              </a:rPr>
              <a:t> POR 2014-2020</a:t>
            </a:r>
            <a:r>
              <a:rPr b="1" lang="ro-RO" sz="1800" spc="-1" strike="noStrike">
                <a:solidFill>
                  <a:srgbClr val="0070c0"/>
                </a:solidFill>
                <a:latin typeface="Calibri"/>
              </a:rPr>
              <a:t>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Data acordării ajutorului de minimis este data la care intră în vigoare contractul de finanțar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neficiarul (membru GAL), este obligat să raporteze către GAL, despre indicatorii proiectului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neficiarul are obligația de a nu utiliza bunurile, finanţate în cadrul proiectului, pentru realizarea de activităţi economice, în scopul obţinerii de venituri, prin cedarea folosinţei către o terţă parte, în perioada de durabilita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neficiarul se obligă să nu schimbe natura activităţii pentru a cărei infrastructură s-a acordat finanţare, in perioada de durabilita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neficiarul se obligă ca ajutorul de minimis obținut să fie utilizat exclusiv în domeniul de activitate (CAEN) specificat in cererea de finantar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neficiarul se obligă să notifice AM/OI, în termen de 5 zile lucrătoare de la emiterea certificatului de înregistrare în scopuri de TVA, dacă este cazu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ificarea locului de implementare este permisă doar pentru proiectele care nu implică lucrări de construcții, in mediul urban, in Regiunea de Dezvoltare NV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că, oricând în perioada de durabilitate a proiectului se constată că încadrarea valorii finanțării nerambursabile solicitate în plafonul de minimis aplicabil s-a realizat, la momentul solicitării și/sau acordării - REZILI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D165-0A32-4266-93FA-4582C2E0EC9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4"/>
          <p:cNvSpPr/>
          <p:nvPr/>
        </p:nvSpPr>
        <p:spPr>
          <a:xfrm>
            <a:off x="395640" y="260640"/>
            <a:ext cx="8496720" cy="53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x-none" sz="1800" spc="-1" strike="noStrike">
                <a:solidFill>
                  <a:srgbClr val="0070c0"/>
                </a:solidFill>
                <a:latin typeface="Calibri"/>
              </a:rPr>
              <a:t>CONDIȚII SPECIFICE </a:t>
            </a:r>
            <a:r>
              <a:rPr b="1" lang="ro-RO" sz="1800" spc="-1" strike="noStrike">
                <a:solidFill>
                  <a:srgbClr val="0070c0"/>
                </a:solidFill>
                <a:latin typeface="Calibri"/>
              </a:rPr>
              <a:t>P.I. 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9</a:t>
            </a:r>
            <a:r>
              <a:rPr b="1" lang="x-none" sz="1800" spc="-1" strike="noStrike">
                <a:solidFill>
                  <a:srgbClr val="0070c0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1 - </a:t>
            </a:r>
            <a:r>
              <a:rPr b="1" lang="x-none" sz="1800" spc="-1" strike="noStrike">
                <a:solidFill>
                  <a:srgbClr val="0070c0"/>
                </a:solidFill>
                <a:latin typeface="Calibri"/>
              </a:rPr>
              <a:t> POR 2014-2020</a:t>
            </a:r>
            <a:r>
              <a:rPr b="1" lang="ro-RO" sz="1800" spc="-1" strike="noStrike">
                <a:solidFill>
                  <a:srgbClr val="0070c0"/>
                </a:solidFill>
                <a:latin typeface="Calibri"/>
              </a:rPr>
              <a:t>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ntru cererile de finanțare care presupun înființarea unui sediu secundar (punct de lucru) ori activarea într-un nou domeniu de activitate (clasa CAEN) – INREGISTR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AUTORIZARE pana la final implementar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cazul în care obiectele / bunurile, fie ele mobile sau imobile, sunt inchiriate = FINANTAREA RECUPERATA (Exceptie CAEN inchirier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neficiarul are obligaţia să păstreze evidenţa detaliată a finanțării nerambursabile acordate pe o perioadă de minimum 10 ani fiscali de la data intrării în vigoare a contractului sau până la închiderea oficială a programului, oricare intervine ultim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neficiarul va respecta, până la expirarea perioadei de durabilitate a proiectului, următoarele condiții de acordare a finanțării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enținerea tipului de entitate juridic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enținerea domeniului de activitate (clasa CAEN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Beneficiarul va transmite la GAL, Rapoarte de Progres/durabilita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4659-E8E7-4216-BED4-E372C76ED72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Imagine 7" descr="Idea_images.png"/>
          <p:cNvPicPr/>
          <p:nvPr/>
        </p:nvPicPr>
        <p:blipFill>
          <a:blip r:embed="rId1"/>
          <a:stretch/>
        </p:blipFill>
        <p:spPr>
          <a:xfrm>
            <a:off x="467640" y="764640"/>
            <a:ext cx="1583640" cy="198288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2"/>
          <p:cNvSpPr/>
          <p:nvPr/>
        </p:nvSpPr>
        <p:spPr>
          <a:xfrm>
            <a:off x="756360" y="692640"/>
            <a:ext cx="8221320" cy="55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MONITORIZAREA, RAPORTAREA SI AUDITAREA PROIECT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AM/ OI monitorizează îndeplinirea 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indicatorilor, atingerea rezultatelor şi a obiectivelor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 - </a:t>
            </a:r>
            <a:r>
              <a:rPr b="0" i="1" lang="ro-RO" sz="1800" spc="-1" strike="noStrike">
                <a:solidFill>
                  <a:srgbClr val="000000"/>
                </a:solidFill>
                <a:latin typeface="Calibri"/>
              </a:rPr>
              <a:t>Anexa 2 (doi) - Cererea de Finanţare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, precum şi modul în care beneficiarul respectă prevederile contractua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AM/ OI monitorizează progresul implementării proiectului și respectiv durabilitatea, pr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Rapoarte de progres trimestrial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nexa 2)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!!! se transmit la trim. de la semnarea contractului de finantar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zite de monitorizare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și Rapoarte de vizită ale O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Verificarea în SMIS/Gestiunea documentelo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Colectarea sistematică de informații privind modul de desfășurare și rezultatele anumitor activităț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Analiza și utilizarea informațiilor  în scopul urmăririi 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stadiulu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îndeplinirii indicatorilor , atingerii rezultatelor și obiectivelor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Num" idx="43"/>
          </p:nvPr>
        </p:nvSpPr>
        <p:spPr>
          <a:xfrm>
            <a:off x="7020360" y="6489360"/>
            <a:ext cx="575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o-RO" sz="12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D094325-6904-4624-B76E-BF5F865D2ADE}" type="slidenum">
              <a:rPr b="0" lang="ro-RO" sz="1200" spc="-1" strike="noStrike">
                <a:solidFill>
                  <a:srgbClr val="8b8b8b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Picture 4" descr=""/>
          <p:cNvPicPr/>
          <p:nvPr/>
        </p:nvPicPr>
        <p:blipFill>
          <a:blip r:embed="rId2"/>
          <a:srcRect l="0" t="0" r="661" b="0"/>
          <a:stretch/>
        </p:blipFill>
        <p:spPr>
          <a:xfrm>
            <a:off x="0" y="6341760"/>
            <a:ext cx="9143640" cy="15408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5"/>
          <p:cNvSpPr/>
          <p:nvPr/>
        </p:nvSpPr>
        <p:spPr>
          <a:xfrm>
            <a:off x="2393640" y="6541200"/>
            <a:ext cx="4650840" cy="30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www.inforegio.ro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Segoe UI"/>
              </a:rPr>
              <a:t>     </a:t>
            </a: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|     facebook.com/inforegio.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Imagine 7" descr="Idea_images.png"/>
          <p:cNvPicPr/>
          <p:nvPr/>
        </p:nvPicPr>
        <p:blipFill>
          <a:blip r:embed="rId1"/>
          <a:stretch/>
        </p:blipFill>
        <p:spPr>
          <a:xfrm>
            <a:off x="467640" y="764640"/>
            <a:ext cx="1583640" cy="198288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2"/>
          <p:cNvSpPr/>
          <p:nvPr/>
        </p:nvSpPr>
        <p:spPr>
          <a:xfrm>
            <a:off x="726840" y="764640"/>
            <a:ext cx="822132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MONITORIZAREA, RAPORTAREA SI AUDITAREA PROIECT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Verificarea transmiterii notificărilor de către beneficiar cu privire la sumele rămase neutilizare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în urma finalizării contractelor de achiziție în vederea dezangajării fondurilor respec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30000"/>
              </a:lnSpc>
              <a:buClr>
                <a:srgbClr val="000000"/>
              </a:buClr>
              <a:buFont typeface="Arial"/>
              <a:buChar char="•"/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Rapoarte de progres trimestrial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!!! se transmit la trim. de la semnarea contractului de finantar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152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prezintă informaţii tehnice şi financiare şi probleme întâmpinate pe parcursul implementări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1520" indent="-285840">
              <a:lnSpc>
                <a:spcPct val="100000"/>
              </a:lnSpc>
              <a:buClr>
                <a:srgbClr val="ff0000"/>
              </a:buClr>
              <a:buFont typeface="Arial"/>
              <a:buChar char="•"/>
            </a:pPr>
            <a:r>
              <a:rPr b="1" lang="ro-RO" sz="1600" spc="-1" strike="noStrike">
                <a:solidFill>
                  <a:srgbClr val="ff0000"/>
                </a:solidFill>
                <a:latin typeface="Calibri"/>
              </a:rPr>
              <a:t>PREZINTĂ STADIUL IMPLEMENTARII ASPECTELOR DE MONITORIZARE SPECIFI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152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în electronic prin 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SMIS - 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în 5 zile lucrătoare de la încheierea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ecarui 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trimestru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 implementere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1520" indent="-28584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Fisa de monitorizare – Aspecte de monitorizat – se va descrie la punctul V, din Raportul de progres, stadiul implementarii aspectelor din fi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Rapoarte de durabilitat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nexa 13)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anual pe perioada post-implementare, 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în 10 zile lucrătoare de la încheierea fiecărui an post-implementare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prezintă situaţia investiţei, atingerea indicatorilor de rezultat  ş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sustenabilitatea proiectulu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Font typeface="Arial"/>
              <a:buChar char="•"/>
            </a:pPr>
            <a:r>
              <a:rPr b="1" lang="ro-RO" sz="1800" spc="-1" strike="noStrike">
                <a:solidFill>
                  <a:srgbClr val="ff0000"/>
                </a:solidFill>
                <a:latin typeface="Calibri"/>
              </a:rPr>
              <a:t>PREZINTĂ STADIUL MENTINERII ASPECTELOR DE MONITORIZARE SPECIF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Num" idx="44"/>
          </p:nvPr>
        </p:nvSpPr>
        <p:spPr>
          <a:xfrm>
            <a:off x="7020360" y="6492960"/>
            <a:ext cx="575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o-RO" sz="12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C124F58-93ED-4695-A3FF-271D01E85761}" type="slidenum">
              <a:rPr b="0" lang="ro-RO" sz="1200" spc="-1" strike="noStrike">
                <a:solidFill>
                  <a:srgbClr val="8b8b8b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Picture 4" descr=""/>
          <p:cNvPicPr/>
          <p:nvPr/>
        </p:nvPicPr>
        <p:blipFill>
          <a:blip r:embed="rId2"/>
          <a:srcRect l="0" t="0" r="661" b="0"/>
          <a:stretch/>
        </p:blipFill>
        <p:spPr>
          <a:xfrm>
            <a:off x="0" y="6341760"/>
            <a:ext cx="9143640" cy="15408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5"/>
          <p:cNvSpPr/>
          <p:nvPr/>
        </p:nvSpPr>
        <p:spPr>
          <a:xfrm>
            <a:off x="2393640" y="6541200"/>
            <a:ext cx="4650840" cy="30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www.inforegio.ro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Segoe UI"/>
              </a:rPr>
              <a:t>     </a:t>
            </a: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|     facebook.com/inforegio.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Imagine 7" descr="Idea_images.png"/>
          <p:cNvPicPr/>
          <p:nvPr/>
        </p:nvPicPr>
        <p:blipFill>
          <a:blip r:embed="rId1"/>
          <a:stretch/>
        </p:blipFill>
        <p:spPr>
          <a:xfrm>
            <a:off x="467640" y="764640"/>
            <a:ext cx="1583640" cy="198288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2"/>
          <p:cNvSpPr/>
          <p:nvPr/>
        </p:nvSpPr>
        <p:spPr>
          <a:xfrm>
            <a:off x="683640" y="836640"/>
            <a:ext cx="8221320" cy="51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>
              <a:lnSpc>
                <a:spcPct val="13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DIT ANA – E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Solicită documente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Efectuează vizite la beneficiar și locația proiectulu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Urmăresc în principi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Derularea procedurilor de achiziții public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Conflictul de intere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Corectitudinea operațiunilor  financiare și înregistrarea lor în contabilita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Dubla finanțar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Venituri realizate din proiec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Ajutorul de st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Realizarea indicatorilor proiectului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, inclusiv prin studii, situații statistice, documente și înregistrări efectuate de beneficia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Num" idx="45"/>
          </p:nvPr>
        </p:nvSpPr>
        <p:spPr>
          <a:xfrm>
            <a:off x="7092360" y="6473520"/>
            <a:ext cx="503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o-RO" sz="12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744D8A7-782D-4596-A8F3-0896E2060BF8}" type="slidenum">
              <a:rPr b="0" lang="ro-RO" sz="1200" spc="-1" strike="noStrike">
                <a:solidFill>
                  <a:srgbClr val="8b8b8b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Picture 4" descr=""/>
          <p:cNvPicPr/>
          <p:nvPr/>
        </p:nvPicPr>
        <p:blipFill>
          <a:blip r:embed="rId2"/>
          <a:srcRect l="0" t="0" r="661" b="0"/>
          <a:stretch/>
        </p:blipFill>
        <p:spPr>
          <a:xfrm>
            <a:off x="0" y="6341760"/>
            <a:ext cx="9143640" cy="15408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5"/>
          <p:cNvSpPr/>
          <p:nvPr/>
        </p:nvSpPr>
        <p:spPr>
          <a:xfrm>
            <a:off x="2393640" y="6541200"/>
            <a:ext cx="4650840" cy="30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www.inforegio.ro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Segoe UI"/>
              </a:rPr>
              <a:t>     </a:t>
            </a: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|     facebook.com/inforegio.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Imagine 7" descr="Idea_images.png"/>
          <p:cNvPicPr/>
          <p:nvPr/>
        </p:nvPicPr>
        <p:blipFill>
          <a:blip r:embed="rId1"/>
          <a:stretch/>
        </p:blipFill>
        <p:spPr>
          <a:xfrm>
            <a:off x="467640" y="764640"/>
            <a:ext cx="1583640" cy="198288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2"/>
          <p:cNvSpPr/>
          <p:nvPr/>
        </p:nvSpPr>
        <p:spPr>
          <a:xfrm>
            <a:off x="683640" y="548640"/>
            <a:ext cx="8221320" cy="52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>
              <a:lnSpc>
                <a:spcPct val="13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DIT ANA – E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Urmăresc în principi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Modificări survenite în implementare (activități, echipa, buget, PT, etc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Abateri față de prevederile Cr. F și Ct. F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Rezultatele proiectulu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Informarea și publicitatea pentru proiec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Păstrarea și arhivarea documentel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Solicită dovez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Solicită explicați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Pot solicita expert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Pot propune corecții financiare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lte 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măsuri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Num" idx="46"/>
          </p:nvPr>
        </p:nvSpPr>
        <p:spPr>
          <a:xfrm>
            <a:off x="7092360" y="6492960"/>
            <a:ext cx="503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o-RO" sz="12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675B150-F4BA-4DB5-8BCD-353FD927DFA1}" type="slidenum">
              <a:rPr b="0" lang="ro-RO" sz="1200" spc="-1" strike="noStrike">
                <a:solidFill>
                  <a:srgbClr val="8b8b8b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icture 4" descr=""/>
          <p:cNvPicPr/>
          <p:nvPr/>
        </p:nvPicPr>
        <p:blipFill>
          <a:blip r:embed="rId2"/>
          <a:srcRect l="0" t="0" r="661" b="0"/>
          <a:stretch/>
        </p:blipFill>
        <p:spPr>
          <a:xfrm>
            <a:off x="0" y="6341760"/>
            <a:ext cx="9143640" cy="1540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5"/>
          <p:cNvSpPr/>
          <p:nvPr/>
        </p:nvSpPr>
        <p:spPr>
          <a:xfrm>
            <a:off x="2393640" y="6541200"/>
            <a:ext cx="4650840" cy="30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www.inforegio.ro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Segoe UI"/>
              </a:rPr>
              <a:t>     </a:t>
            </a: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|     facebook.com/inforegio.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Num" idx="47"/>
          </p:nvPr>
        </p:nvSpPr>
        <p:spPr>
          <a:xfrm>
            <a:off x="7020360" y="6489360"/>
            <a:ext cx="575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o-RO" sz="12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572284-5D68-462B-8B0D-5022CC25873B}" type="slidenum">
              <a:rPr b="0" lang="ro-RO" sz="1200" spc="-1" strike="noStrike">
                <a:solidFill>
                  <a:srgbClr val="8b8b8b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ubtitlu 2"/>
          <p:cNvSpPr/>
          <p:nvPr/>
        </p:nvSpPr>
        <p:spPr>
          <a:xfrm>
            <a:off x="5364000" y="4509000"/>
            <a:ext cx="3528000" cy="9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1" i="1" lang="ro-RO" sz="1600" spc="-1" strike="noStrike">
                <a:solidFill>
                  <a:srgbClr val="c00000"/>
                </a:solidFill>
                <a:latin typeface="Calibri"/>
              </a:rPr>
              <a:t>Departamentul </a:t>
            </a:r>
            <a:r>
              <a:rPr b="1" i="1" lang="en-US" sz="1600" spc="-1" strike="noStrike">
                <a:solidFill>
                  <a:srgbClr val="c00000"/>
                </a:solidFill>
                <a:latin typeface="Calibri"/>
              </a:rPr>
              <a:t>Monitorizare Proiec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i="1" lang="en-US" sz="1600" spc="-1" strike="noStrike">
                <a:solidFill>
                  <a:srgbClr val="c00000"/>
                </a:solidFill>
                <a:latin typeface="Calibri"/>
              </a:rPr>
              <a:t>Viorel BOCA</a:t>
            </a:r>
            <a:r>
              <a:rPr b="0" i="1" lang="ro-RO" sz="1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i="1" lang="en-US" sz="1600" spc="-1" strike="noStrike">
                <a:solidFill>
                  <a:srgbClr val="c00000"/>
                </a:solidFill>
                <a:latin typeface="Calibri"/>
              </a:rPr>
              <a:t> - tel. 0755.777.0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i="1" lang="en-US" sz="1600" spc="-1" strike="noStrike">
                <a:solidFill>
                  <a:srgbClr val="c00000"/>
                </a:solidFill>
                <a:latin typeface="Calibri"/>
              </a:rPr>
              <a:t>e_mail: viorel.boca@nord-vest.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itle 3"/>
          <p:cNvSpPr/>
          <p:nvPr/>
        </p:nvSpPr>
        <p:spPr>
          <a:xfrm>
            <a:off x="3289320" y="2063520"/>
            <a:ext cx="23893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MULT SUCCES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4"/>
          <p:cNvSpPr/>
          <p:nvPr/>
        </p:nvSpPr>
        <p:spPr>
          <a:xfrm>
            <a:off x="7020360" y="6489360"/>
            <a:ext cx="57564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</a:pPr>
            <a:fld id="{E68724A9-98A9-4460-AEC5-FED73ADC2C38}" type="slidenum">
              <a:rPr b="0" lang="ro-RO" sz="1200" spc="-1" strike="noStrike">
                <a:solidFill>
                  <a:srgbClr val="8b8b8b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9"/>
          <p:cNvSpPr/>
          <p:nvPr/>
        </p:nvSpPr>
        <p:spPr>
          <a:xfrm>
            <a:off x="0" y="2781000"/>
            <a:ext cx="9116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2060"/>
                </a:solidFill>
                <a:latin typeface="Trebuchet MS"/>
              </a:rPr>
              <a:t>Investim în viitorul tău! Proiect cofinanţat din Fondul European</a:t>
            </a:r>
            <a:br>
              <a:rPr sz="1800"/>
            </a:br>
            <a:r>
              <a:rPr b="0" lang="en-US" sz="1800" spc="-1" strike="noStrike">
                <a:solidFill>
                  <a:srgbClr val="002060"/>
                </a:solidFill>
                <a:latin typeface="Trebuchet MS"/>
              </a:rPr>
              <a:t>de Dezvoltare Regională prin Programul Operaţional Regional 2014-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1" descr="C:\Users\cristianciuta\Desktop\12.02.2018\Sigle si etichete\Sigla buna ADR.png"/>
          <p:cNvPicPr/>
          <p:nvPr/>
        </p:nvPicPr>
        <p:blipFill>
          <a:blip r:embed="rId1"/>
          <a:stretch/>
        </p:blipFill>
        <p:spPr>
          <a:xfrm>
            <a:off x="1043640" y="4271040"/>
            <a:ext cx="2991960" cy="13046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" descr=""/>
          <p:cNvPicPr/>
          <p:nvPr/>
        </p:nvPicPr>
        <p:blipFill>
          <a:blip r:embed="rId2"/>
          <a:stretch/>
        </p:blipFill>
        <p:spPr>
          <a:xfrm>
            <a:off x="239400" y="609480"/>
            <a:ext cx="8610120" cy="10072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2" descr=""/>
          <p:cNvPicPr/>
          <p:nvPr/>
        </p:nvPicPr>
        <p:blipFill>
          <a:blip r:embed="rId3"/>
          <a:srcRect l="0" t="0" r="661" b="0"/>
          <a:stretch/>
        </p:blipFill>
        <p:spPr>
          <a:xfrm>
            <a:off x="0" y="6341760"/>
            <a:ext cx="9143640" cy="15408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13"/>
          <p:cNvSpPr/>
          <p:nvPr/>
        </p:nvSpPr>
        <p:spPr>
          <a:xfrm>
            <a:off x="2393640" y="6541200"/>
            <a:ext cx="4650840" cy="30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www.inforegio.ro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Segoe UI"/>
              </a:rPr>
              <a:t>     </a:t>
            </a: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|     facebook.com/inforegio.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5364000" y="3213000"/>
            <a:ext cx="2692440" cy="24555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8"/>
          <p:cNvSpPr/>
          <p:nvPr/>
        </p:nvSpPr>
        <p:spPr>
          <a:xfrm>
            <a:off x="301320" y="548640"/>
            <a:ext cx="8568720" cy="47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MANAGEMENTUL PROIECT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RECOMANDĂRI GENER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tudiaţi cu atenţie Contractul de finanţare si </a:t>
            </a:r>
            <a:r>
              <a:rPr b="1" lang="ro-RO" sz="1800" spc="-1" strike="noStrike" u="sng">
                <a:solidFill>
                  <a:srgbClr val="000000"/>
                </a:solidFill>
                <a:uFillTx/>
                <a:latin typeface="Calibri"/>
              </a:rPr>
              <a:t>toate anexele 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acestuia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000000"/>
              </a:buClr>
              <a:buFont typeface="Arial"/>
              <a:buChar char="•"/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Nominalizaţi prin decizie managerială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echipa de implementare a proiectulu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tabiliţi prin fişa postului sarcinile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şi responsabilităţile fiecărei funcţii din echip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000000"/>
              </a:buClr>
              <a:buFont typeface="Arial"/>
              <a:buChar char="•"/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Asiguraţi participarea la instruirile organizate de OI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, a tuturor membrilor din echipa de proiect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000000"/>
              </a:buClr>
              <a:buFont typeface="Arial"/>
              <a:buChar char="•"/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Asiguraţi accesul membrilor echipei de proiect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la prevederile contractuale precum şi legislaţia naţională şi comunitară în vigoa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000000"/>
              </a:buClr>
              <a:buFont typeface="Arial"/>
              <a:buChar char="•"/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Verificaţi modul de respectare a prevederilor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, contractuale precum şi a legislaţiei naţionale/ comunitare, pe toata durata implementării proiectulu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000000"/>
              </a:buClr>
              <a:buFont typeface="Arial"/>
              <a:buChar char="•"/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Verificaţi daca sunt realizaţi în totalitate indicatorii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asumaţi prin contractul de finanţar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Num" idx="16"/>
          </p:nvPr>
        </p:nvSpPr>
        <p:spPr>
          <a:xfrm>
            <a:off x="7092360" y="6473520"/>
            <a:ext cx="394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o-RO" sz="12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A29E93-E4FB-47F1-9F8B-E199443BB005}" type="slidenum">
              <a:rPr b="0" lang="ro-RO" sz="1200" spc="-1" strike="noStrike">
                <a:solidFill>
                  <a:srgbClr val="8b8b8b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2"/>
          <a:srcRect l="0" t="0" r="661" b="0"/>
          <a:stretch/>
        </p:blipFill>
        <p:spPr>
          <a:xfrm>
            <a:off x="0" y="6341760"/>
            <a:ext cx="9143640" cy="1540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5"/>
          <p:cNvSpPr/>
          <p:nvPr/>
        </p:nvSpPr>
        <p:spPr>
          <a:xfrm>
            <a:off x="2393640" y="6541200"/>
            <a:ext cx="4650840" cy="30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www.inforegio.ro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Segoe UI"/>
              </a:rPr>
              <a:t>     </a:t>
            </a: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|     facebook.com/inforegio.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5364000" y="3213000"/>
            <a:ext cx="2692440" cy="245556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7"/>
          <p:cNvSpPr/>
          <p:nvPr/>
        </p:nvSpPr>
        <p:spPr>
          <a:xfrm>
            <a:off x="353520" y="764640"/>
            <a:ext cx="8509320" cy="47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68000">
              <a:lnSpc>
                <a:spcPct val="130000"/>
              </a:lnSpc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ECHIPA DE MANAGEMENT A PROIECT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800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Este formată din persoane care deţin competenţele şi experienţa necesar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8000" indent="-28584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Este numită prin „Decizie” a reprezentantului legal al BENEFICIARULU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8000" indent="-28584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Membrii echipei de implementare îşi desfăşoară activitatea conform FP specific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8000" indent="-28584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Planifica activităţile şi acţiunile pentru implementare a proiectulu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8000" indent="-28584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Urmărește modul de implementare al activităților și acțiunil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8000" indent="-28584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Evaluează eficientăța implementării activităților și acțiunilor și rezultate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8000" indent="-28584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Poate folosi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T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a unui consultan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8000" indent="-28584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Consultantul poate să facă parte din echipa de implementare a proiectului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800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odificarea echipei de implement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1080" indent="-343080">
              <a:lnSpc>
                <a:spcPct val="120000"/>
              </a:lnSpc>
              <a:buClr>
                <a:srgbClr val="000000"/>
              </a:buClr>
              <a:buFont typeface="Trebuchet MS"/>
              <a:buAutoNum type="arabicPeriod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Membrii echipei pot fi înlocuiţi numai prin decizia reprezentantului legal,  cu persoane care deţin cel puţin aceleaşi competenţe şi experienţ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1080" indent="-343080">
              <a:lnSpc>
                <a:spcPct val="120000"/>
              </a:lnSpc>
              <a:buClr>
                <a:srgbClr val="000000"/>
              </a:buClr>
              <a:buFont typeface="Trebuchet MS"/>
              <a:buAutoNum type="arabicPeriod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eneficiarul notifică OI şi AM + declaraţie a persoanei înlocuite, </a:t>
            </a:r>
            <a:r>
              <a:rPr b="0" lang="ro-RO" sz="1800" spc="-1" strike="noStrike" u="sng">
                <a:solidFill>
                  <a:srgbClr val="000000"/>
                </a:solidFill>
                <a:uFillTx/>
                <a:latin typeface="Calibri"/>
              </a:rPr>
              <a:t>că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NU</a:t>
            </a:r>
            <a:r>
              <a:rPr b="0" lang="ro-RO" sz="1800" spc="-1" strike="noStrike" u="sng">
                <a:solidFill>
                  <a:srgbClr val="000000"/>
                </a:solidFill>
                <a:uFillTx/>
                <a:latin typeface="Calibri"/>
              </a:rPr>
              <a:t> a devenit angajat/acţionar/administrator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al  contractorului/sub-contractorulu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Num" idx="17"/>
          </p:nvPr>
        </p:nvSpPr>
        <p:spPr>
          <a:xfrm>
            <a:off x="6948360" y="6457680"/>
            <a:ext cx="394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o-RO" sz="12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5F6E3D3-2698-427D-872F-7486B38F5D5E}" type="slidenum">
              <a:rPr b="0" lang="ro-RO" sz="1200" spc="-1" strike="noStrike">
                <a:solidFill>
                  <a:srgbClr val="8b8b8b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2"/>
          <a:srcRect l="0" t="0" r="661" b="0"/>
          <a:stretch/>
        </p:blipFill>
        <p:spPr>
          <a:xfrm>
            <a:off x="0" y="6341760"/>
            <a:ext cx="9143640" cy="15408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5"/>
          <p:cNvSpPr/>
          <p:nvPr/>
        </p:nvSpPr>
        <p:spPr>
          <a:xfrm>
            <a:off x="2393640" y="6541200"/>
            <a:ext cx="4650840" cy="30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www.inforegio.ro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Segoe UI"/>
              </a:rPr>
              <a:t>     </a:t>
            </a: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|     facebook.com/inforegio.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5364000" y="3213000"/>
            <a:ext cx="2692440" cy="245556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6"/>
          <p:cNvSpPr/>
          <p:nvPr/>
        </p:nvSpPr>
        <p:spPr>
          <a:xfrm>
            <a:off x="323640" y="620640"/>
            <a:ext cx="8509320" cy="36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68000">
              <a:lnSpc>
                <a:spcPct val="13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strumente de management/monitoriz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8000" indent="-285840">
              <a:lnSpc>
                <a:spcPct val="130000"/>
              </a:lnSpc>
              <a:buClr>
                <a:srgbClr val="000000"/>
              </a:buClr>
              <a:buFont typeface="Arial"/>
              <a:buChar char="•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Instrucţiuni de monitorizare, informare şi publicita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8000" indent="-285840">
              <a:lnSpc>
                <a:spcPct val="130000"/>
              </a:lnSpc>
              <a:buClr>
                <a:srgbClr val="000000"/>
              </a:buClr>
              <a:buFont typeface="Arial"/>
              <a:buChar char="•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Instrucţiuni de pre-finanţare şi rambursa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8000" indent="-285840">
              <a:lnSpc>
                <a:spcPct val="130000"/>
              </a:lnSpc>
              <a:buClr>
                <a:srgbClr val="000000"/>
              </a:buClr>
              <a:buFont typeface="Arial"/>
              <a:buChar char="•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Planul de achiziţi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8000" indent="-285840">
              <a:lnSpc>
                <a:spcPct val="130000"/>
              </a:lnSpc>
              <a:buClr>
                <a:srgbClr val="000000"/>
              </a:buClr>
              <a:buFont typeface="Arial"/>
              <a:buChar char="•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Calendarul activităţil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8000" indent="-285840">
              <a:lnSpc>
                <a:spcPct val="130000"/>
              </a:lnSpc>
              <a:buClr>
                <a:srgbClr val="000000"/>
              </a:buClr>
              <a:buFont typeface="Arial"/>
              <a:buChar char="•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Indicatorii din CF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8000" indent="-285840">
              <a:lnSpc>
                <a:spcPct val="130000"/>
              </a:lnSpc>
              <a:buClr>
                <a:srgbClr val="000000"/>
              </a:buClr>
              <a:buFont typeface="Arial"/>
              <a:buChar char="•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Graficul de rambursar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8000" indent="-285840">
              <a:lnSpc>
                <a:spcPct val="130000"/>
              </a:lnSpc>
              <a:buClr>
                <a:srgbClr val="000000"/>
              </a:buClr>
              <a:buFont typeface="Arial"/>
              <a:buChar char="•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Bugetul proiectulu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8000" indent="-285840">
              <a:lnSpc>
                <a:spcPct val="13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aficul de executie lucrar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8000" indent="-285840">
              <a:lnSpc>
                <a:spcPct val="130000"/>
              </a:lnSpc>
              <a:buClr>
                <a:srgbClr val="000000"/>
              </a:buClr>
              <a:buFont typeface="Arial"/>
              <a:buChar char="•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ermene contractale și angajame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Num" idx="18"/>
          </p:nvPr>
        </p:nvSpPr>
        <p:spPr>
          <a:xfrm>
            <a:off x="6876360" y="6456960"/>
            <a:ext cx="431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o-RO" sz="12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0B7AB1-ADDD-4E3C-8508-96AA35DDE29A}" type="slidenum">
              <a:rPr b="0" lang="ro-RO" sz="1200" spc="-1" strike="noStrike">
                <a:solidFill>
                  <a:srgbClr val="8b8b8b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2"/>
          <a:srcRect l="0" t="0" r="661" b="0"/>
          <a:stretch/>
        </p:blipFill>
        <p:spPr>
          <a:xfrm>
            <a:off x="0" y="6341760"/>
            <a:ext cx="9143640" cy="1540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2393640" y="6541200"/>
            <a:ext cx="4650840" cy="30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www.inforegio.ro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Segoe UI"/>
              </a:rPr>
              <a:t>     </a:t>
            </a: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|     facebook.com/inforegio.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3"/>
          <p:cNvSpPr/>
          <p:nvPr/>
        </p:nvSpPr>
        <p:spPr>
          <a:xfrm>
            <a:off x="683280" y="764640"/>
            <a:ext cx="792036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TRACTUL DE FINANTARE</a:t>
            </a:r>
            <a:br>
              <a:rPr sz="1800"/>
            </a:b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CONTRACT de FINANȚARE =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ditii generale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ditii specifice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  +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nexe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x-none" sz="1800" spc="-1" strike="noStrike">
                <a:solidFill>
                  <a:srgbClr val="000000"/>
                </a:solidFill>
                <a:latin typeface="Calibri"/>
              </a:rPr>
              <a:t>Precizări prealabile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</a:pPr>
            <a:r>
              <a:rPr b="0" i="1" lang="ro-RO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i="1" lang="ro-RO" sz="1800" spc="-1" strike="noStrike">
                <a:solidFill>
                  <a:srgbClr val="000000"/>
                </a:solidFill>
                <a:latin typeface="Calibri"/>
              </a:rPr>
              <a:t>(3) </a:t>
            </a:r>
            <a:r>
              <a:rPr b="0" i="1" lang="x-none" sz="1800" spc="-1" strike="noStrike">
                <a:solidFill>
                  <a:srgbClr val="000000"/>
                </a:solidFill>
                <a:latin typeface="Calibri"/>
              </a:rPr>
              <a:t>În cazul în care oricare dintre prevederile prezentului Contract de Finanțare este sau devine nulă, invalidă sau neexecutabilă conform legii, legalitatea, valabilitatea si posibilitatea de executare a celorlalte prevederi din prezentul Contract de Finanțare vor rămâne neafectate, iar Părțile vor depune eforturile necesare pentru a realiza acele acte și/sau modificări care ar conduce la același rezultat legal și/sau economic care s-a avut în vedere la data încheierii Contractului de Finanţare.</a:t>
            </a:r>
            <a:r>
              <a:rPr b="0" i="1" lang="ro-RO" sz="1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</a:pPr>
            <a:r>
              <a:rPr b="0" i="1" lang="ro-RO" sz="1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ro-RO" sz="1800" spc="-1" strike="noStrike">
                <a:solidFill>
                  <a:srgbClr val="000000"/>
                </a:solidFill>
                <a:latin typeface="Calibri"/>
              </a:rPr>
              <a:t>(4) </a:t>
            </a:r>
            <a:r>
              <a:rPr b="0" i="1" lang="x-none" sz="1800" spc="-1" strike="noStrike">
                <a:solidFill>
                  <a:srgbClr val="000000"/>
                </a:solidFill>
                <a:latin typeface="Calibri"/>
              </a:rPr>
              <a:t>În înțelesul prezentului Contract de Finanțare, atunci când există și parteneri, drepturile și obligațiile beneficiarilor revin și partenerilor</a:t>
            </a:r>
            <a:r>
              <a:rPr b="0" i="1" lang="ro-RO" sz="1800" spc="-1" strike="noStrike">
                <a:solidFill>
                  <a:srgbClr val="000000"/>
                </a:solidFill>
                <a:latin typeface="Calibri"/>
              </a:rPr>
              <a:t>.”</a:t>
            </a:r>
            <a:r>
              <a:rPr b="0" i="1" lang="x-none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</a:pPr>
            <a:r>
              <a:rPr b="0" i="1" lang="ro-RO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i="1" lang="ro-RO" sz="1800" spc="-1" strike="noStrike">
                <a:solidFill>
                  <a:srgbClr val="000000"/>
                </a:solidFill>
                <a:latin typeface="Calibri"/>
              </a:rPr>
              <a:t>(5) </a:t>
            </a:r>
            <a:r>
              <a:rPr b="0" i="1" lang="x-none" sz="1800" spc="-1" strike="noStrike">
                <a:solidFill>
                  <a:srgbClr val="000000"/>
                </a:solidFill>
                <a:latin typeface="Calibri"/>
              </a:rPr>
              <a:t>Finanţarea nerambursabilă acordată Beneficiarului este stabilită în termenii şi condiţiile prezentului Contract.</a:t>
            </a:r>
            <a:r>
              <a:rPr b="0" i="1" lang="ro-RO" sz="1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Num" idx="19"/>
          </p:nvPr>
        </p:nvSpPr>
        <p:spPr>
          <a:xfrm>
            <a:off x="6948360" y="6492960"/>
            <a:ext cx="431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o-RO" sz="12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E22C9F-24D1-49F7-886C-0A8E74F0BF97}" type="slidenum">
              <a:rPr b="0" lang="ro-RO" sz="1200" spc="-1" strike="noStrike">
                <a:solidFill>
                  <a:srgbClr val="8b8b8b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rcRect l="0" t="0" r="661" b="0"/>
          <a:stretch/>
        </p:blipFill>
        <p:spPr>
          <a:xfrm>
            <a:off x="0" y="6341760"/>
            <a:ext cx="9143640" cy="1540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2393640" y="6541200"/>
            <a:ext cx="4650840" cy="30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www.inforegio.ro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Segoe UI"/>
              </a:rPr>
              <a:t>     </a:t>
            </a: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|     facebook.com/inforegio.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5364000" y="3213000"/>
            <a:ext cx="2692440" cy="24555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6"/>
          <p:cNvSpPr/>
          <p:nvPr/>
        </p:nvSpPr>
        <p:spPr>
          <a:xfrm>
            <a:off x="729360" y="476640"/>
            <a:ext cx="8077320" cy="54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TRACTUL DE FINANTAR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DITII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E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x-none" sz="1800" spc="-1" strike="noStrike" u="sng">
                <a:solidFill>
                  <a:srgbClr val="000000"/>
                </a:solidFill>
                <a:uFillTx/>
                <a:latin typeface="Calibri"/>
              </a:rPr>
              <a:t>Obligațiile părților</a:t>
            </a:r>
            <a:r>
              <a:rPr b="1" lang="ro-RO" sz="1800" spc="-1" strike="noStrike" u="sng">
                <a:solidFill>
                  <a:srgbClr val="000000"/>
                </a:solidFill>
                <a:uFillTx/>
                <a:latin typeface="Calibri"/>
              </a:rPr>
              <a:t>/</a:t>
            </a:r>
            <a:r>
              <a:rPr b="1" lang="ro-RO" sz="1800" spc="-1" strike="noStrike" u="sng" cap="all">
                <a:solidFill>
                  <a:srgbClr val="000000"/>
                </a:solidFill>
                <a:uFillTx/>
                <a:latin typeface="Calibri"/>
              </a:rPr>
              <a:t> </a:t>
            </a:r>
            <a:r>
              <a:rPr b="1" lang="ro-RO" sz="1800" spc="-1" strike="noStrike" u="sng">
                <a:solidFill>
                  <a:srgbClr val="000000"/>
                </a:solidFill>
                <a:uFillTx/>
                <a:latin typeface="Calibri"/>
              </a:rPr>
              <a:t>Drepturile și obligațiile beneficiarului /Partener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ă asigure managementul şi implementarea Proiectului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form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cu prevederil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n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contract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n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legislaţ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europ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nă şi naţională, aplicabil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De a </a:t>
            </a: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începe executarea contractului în cel mult 6 (șase) luni de la intrarea în vigoare a acestuia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e a realiza toate activitățile prevăzute în Anexa 2 (doi) - Cererea de finanțare </a:t>
            </a:r>
            <a:r>
              <a:rPr b="1" lang="x-none" sz="1800" spc="-1" strike="noStrike" u="sng">
                <a:solidFill>
                  <a:srgbClr val="000000"/>
                </a:solidFill>
                <a:uFillTx/>
                <a:latin typeface="Calibri"/>
              </a:rPr>
              <a:t>fără a depăși perioada de implementare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De a solicita în scris p.d.v al AM/OI - pentru  aspecte survenite ce pot afecta implementare a proiectulu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e a pune la dispoziția AM/OI,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alt organism abilitat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 documentele și/sau informațiile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în maximum 5 (cinci) zile lucrătoare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ă asigure condițiile pentru efectuarea verificărilor la fața locului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ă informeze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AM/OI/ </a:t>
            </a: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organism abilitat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locul arhivării documentelor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- în</a:t>
            </a: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 3 (trei) zile de la solicit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are și să</a:t>
            </a: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 asigur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 accesul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Num" idx="20"/>
          </p:nvPr>
        </p:nvSpPr>
        <p:spPr>
          <a:xfrm>
            <a:off x="7020360" y="6453360"/>
            <a:ext cx="359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o-RO" sz="12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80B6716-E5F2-4800-A68E-5A7F65700172}" type="slidenum">
              <a:rPr b="0" lang="ro-RO" sz="1200" spc="-1" strike="noStrike">
                <a:solidFill>
                  <a:srgbClr val="8b8b8b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2"/>
          <a:srcRect l="0" t="0" r="661" b="0"/>
          <a:stretch/>
        </p:blipFill>
        <p:spPr>
          <a:xfrm>
            <a:off x="0" y="6341760"/>
            <a:ext cx="9143640" cy="15408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5"/>
          <p:cNvSpPr/>
          <p:nvPr/>
        </p:nvSpPr>
        <p:spPr>
          <a:xfrm>
            <a:off x="2393640" y="6541200"/>
            <a:ext cx="4650840" cy="30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www.inforegio.ro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Segoe UI"/>
              </a:rPr>
              <a:t>     </a:t>
            </a: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|     facebook.com/inforegio.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ăgeată dreapta vărgată 8" hidden="1"/>
          <p:cNvSpPr/>
          <p:nvPr/>
        </p:nvSpPr>
        <p:spPr>
          <a:xfrm>
            <a:off x="1043640" y="4077000"/>
            <a:ext cx="575640" cy="1223640"/>
          </a:xfrm>
          <a:prstGeom prst="striped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dadada"/>
              </a:gs>
              <a:gs pos="100000">
                <a:srgbClr val="f0f0f0"/>
              </a:gs>
            </a:gsLst>
            <a:lin ang="16200000"/>
          </a:gradFill>
          <a:ln>
            <a:solidFill>
              <a:srgbClr val="777777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o-RO" sz="1800" spc="-1" strike="noStrike">
              <a:solidFill>
                <a:schemeClr val="dk1"/>
              </a:solidFill>
              <a:latin typeface="Trebuchet MS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755640" y="620640"/>
            <a:ext cx="8077320" cy="53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DITII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E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x-none" sz="1800" spc="-1" strike="noStrike" u="sng">
                <a:solidFill>
                  <a:srgbClr val="000000"/>
                </a:solidFill>
                <a:uFillTx/>
                <a:latin typeface="Calibri"/>
              </a:rPr>
              <a:t>Obligațiile părților</a:t>
            </a:r>
            <a:r>
              <a:rPr b="1" lang="ro-RO" sz="1800" spc="-1" strike="noStrike" u="sng">
                <a:solidFill>
                  <a:srgbClr val="000000"/>
                </a:solidFill>
                <a:uFillTx/>
                <a:latin typeface="Calibri"/>
              </a:rPr>
              <a:t>/</a:t>
            </a:r>
            <a:r>
              <a:rPr b="1" lang="ro-RO" sz="1800" spc="-1" strike="noStrike" u="sng" cap="all">
                <a:solidFill>
                  <a:srgbClr val="000000"/>
                </a:solidFill>
                <a:uFillTx/>
                <a:latin typeface="Calibri"/>
              </a:rPr>
              <a:t> </a:t>
            </a:r>
            <a:r>
              <a:rPr b="1" lang="ro-RO" sz="1800" spc="-1" strike="noStrike" u="sng">
                <a:solidFill>
                  <a:srgbClr val="000000"/>
                </a:solidFill>
                <a:uFillTx/>
                <a:latin typeface="Calibri"/>
              </a:rPr>
              <a:t>Drepturile și obligațiile beneficiarului /Partener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Să îndosarieze și păstreze toate documentele proiectului 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în original precum şi copii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ale documentelor partenerilor, dacă este cazul, inclusiv documentele contabile - </a:t>
            </a:r>
            <a:r>
              <a:rPr b="0" lang="ro-RO" sz="1800" spc="-1" strike="noStrike" u="sng">
                <a:solidFill>
                  <a:srgbClr val="000000"/>
                </a:solidFill>
                <a:uFillTx/>
                <a:latin typeface="Calibri"/>
              </a:rPr>
              <a:t>până la închiderea oficială a Programului/expirarea perioadei de durabilitate a proiectulu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Să completeze/actualizeze datele, ori de cate ori este cazul, în MYSMIS 201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ă plătească sumele necesare asigurării cofinanţării eligibile şi a finanţării cheltuielilor neeligibi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Să ţină o evidenţă contabilă analitică a proiectului – conturi analitic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Să respecte prevederile legislaţiei în domeniul achiziţiilor public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Să întocmească RP şi CR/Cr. plată pt. verificare de O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Pentru </a:t>
            </a: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garanţii, în condiţiile legii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– Beneficiarul </a:t>
            </a: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este obligat să transmită AM/OI, o copie Contract de Credit şi Ipotecă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_</a:t>
            </a: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 în maximum 10 (zece) zile lucrătoare de la semnarea acestuia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 raportul de evaluare a imobilului finanţat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prin POR, </a:t>
            </a: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în cazul imobilelor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Num" idx="21"/>
          </p:nvPr>
        </p:nvSpPr>
        <p:spPr>
          <a:xfrm>
            <a:off x="7092360" y="6481440"/>
            <a:ext cx="431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o-RO" sz="12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609DADD-325D-4B27-BE51-C3C780FED7B6}" type="slidenum">
              <a:rPr b="0" lang="ro-RO" sz="1200" spc="-1" strike="noStrike">
                <a:solidFill>
                  <a:srgbClr val="8b8b8b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rcRect l="0" t="0" r="661" b="0"/>
          <a:stretch/>
        </p:blipFill>
        <p:spPr>
          <a:xfrm>
            <a:off x="0" y="6341760"/>
            <a:ext cx="9143640" cy="15408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5"/>
          <p:cNvSpPr/>
          <p:nvPr/>
        </p:nvSpPr>
        <p:spPr>
          <a:xfrm>
            <a:off x="2393640" y="6541200"/>
            <a:ext cx="4650840" cy="30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www.inforegio.ro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Segoe UI"/>
              </a:rPr>
              <a:t>     </a:t>
            </a:r>
            <a:r>
              <a:rPr b="1" lang="en-US" sz="1400" spc="-1" strike="noStrike">
                <a:solidFill>
                  <a:srgbClr val="23409a"/>
                </a:solidFill>
                <a:latin typeface="Trebuchet MS"/>
                <a:ea typeface="Segoe UI"/>
              </a:rPr>
              <a:t>|     facebook.com/inforegio.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_Temă Office">
  <a:themeElements>
    <a:clrScheme name="Essential">
      <a:dk1>
        <a:srgbClr val="000000"/>
      </a:dk1>
      <a:lt1>
        <a:srgbClr val="ffffff"/>
      </a:lt1>
      <a:dk2>
        <a:srgbClr val="d1282e"/>
      </a:dk2>
      <a:lt2>
        <a:srgbClr val="c8c8b1"/>
      </a:lt2>
      <a:accent1>
        <a:srgbClr val="7a7a7a"/>
      </a:accent1>
      <a:accent2>
        <a:srgbClr val="f5c201"/>
      </a:accent2>
      <a:accent3>
        <a:srgbClr val="526db0"/>
      </a:accent3>
      <a:accent4>
        <a:srgbClr val="989aac"/>
      </a:accent4>
      <a:accent5>
        <a:srgbClr val="dc5924"/>
      </a:accent5>
      <a:accent6>
        <a:srgbClr val="b4b392"/>
      </a:accent6>
      <a:hlink>
        <a:srgbClr val="cc9900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1_Temă Office">
  <a:themeElements>
    <a:clrScheme name="Essential">
      <a:dk1>
        <a:srgbClr val="000000"/>
      </a:dk1>
      <a:lt1>
        <a:srgbClr val="ffffff"/>
      </a:lt1>
      <a:dk2>
        <a:srgbClr val="d1282e"/>
      </a:dk2>
      <a:lt2>
        <a:srgbClr val="c8c8b1"/>
      </a:lt2>
      <a:accent1>
        <a:srgbClr val="7a7a7a"/>
      </a:accent1>
      <a:accent2>
        <a:srgbClr val="f5c201"/>
      </a:accent2>
      <a:accent3>
        <a:srgbClr val="526db0"/>
      </a:accent3>
      <a:accent4>
        <a:srgbClr val="989aac"/>
      </a:accent4>
      <a:accent5>
        <a:srgbClr val="dc5924"/>
      </a:accent5>
      <a:accent6>
        <a:srgbClr val="b4b392"/>
      </a:accent6>
      <a:hlink>
        <a:srgbClr val="cc9900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1_Temă Office">
  <a:themeElements>
    <a:clrScheme name="Essential">
      <a:dk1>
        <a:srgbClr val="000000"/>
      </a:dk1>
      <a:lt1>
        <a:srgbClr val="ffffff"/>
      </a:lt1>
      <a:dk2>
        <a:srgbClr val="d1282e"/>
      </a:dk2>
      <a:lt2>
        <a:srgbClr val="c8c8b1"/>
      </a:lt2>
      <a:accent1>
        <a:srgbClr val="7a7a7a"/>
      </a:accent1>
      <a:accent2>
        <a:srgbClr val="f5c201"/>
      </a:accent2>
      <a:accent3>
        <a:srgbClr val="526db0"/>
      </a:accent3>
      <a:accent4>
        <a:srgbClr val="989aac"/>
      </a:accent4>
      <a:accent5>
        <a:srgbClr val="dc5924"/>
      </a:accent5>
      <a:accent6>
        <a:srgbClr val="b4b392"/>
      </a:accent6>
      <a:hlink>
        <a:srgbClr val="cc9900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d1282e"/>
      </a:dk2>
      <a:lt2>
        <a:srgbClr val="c8c8b1"/>
      </a:lt2>
      <a:accent1>
        <a:srgbClr val="7a7a7a"/>
      </a:accent1>
      <a:accent2>
        <a:srgbClr val="f5c201"/>
      </a:accent2>
      <a:accent3>
        <a:srgbClr val="526db0"/>
      </a:accent3>
      <a:accent4>
        <a:srgbClr val="989aac"/>
      </a:accent4>
      <a:accent5>
        <a:srgbClr val="dc5924"/>
      </a:accent5>
      <a:accent6>
        <a:srgbClr val="b4b392"/>
      </a:accent6>
      <a:hlink>
        <a:srgbClr val="cc9900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5</TotalTime>
  <Application>LibreOffice/7.4.7.2$Linux_X86_64 LibreOffice_project/40$Build-2</Application>
  <AppVersion>15.0000</AppVersion>
  <Words>4038</Words>
  <Paragraphs>38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9:46:57Z</dcterms:created>
  <dc:creator>nicolaedemian</dc:creator>
  <dc:description/>
  <dc:language>en-US</dc:language>
  <cp:lastModifiedBy>Viorel Boca</cp:lastModifiedBy>
  <dcterms:modified xsi:type="dcterms:W3CDTF">2022-04-28T06:35:10Z</dcterms:modified>
  <cp:revision>1206</cp:revision>
  <dc:subject/>
  <dc:title>Diapozitivul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On-screen Show (4:3)</vt:lpwstr>
  </property>
  <property fmtid="{D5CDD505-2E9C-101B-9397-08002B2CF9AE}" pid="4" name="Slides">
    <vt:r8>38</vt:r8>
  </property>
</Properties>
</file>